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e63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5BEE-9358-4F00-B555-200799B3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presentation is linked with the questions in the accompanying word docu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54F8-DFDE-4F9E-85A3-A530DC40A0BF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showing percentage of cells from a plant root tip at different stages of mitosis. There are questions relating to this table on the accompanying work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E811-95FD-46E8-8E07-6B39A4A8B99B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ph showing how the mass of DNA in an animal cell changed over two cell cycles. There are questions relating to this graph on the accompanying workshe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E189-87A7-4C06-B9B0-474AC7F32710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slide and the next add a little more detail to the cell cycle – the names of the different phases of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4053-B623-4F7C-B8FD-675C7C4CEF4D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phases of interphase. Note that these are not required by all spec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04A9-A641-4B89-9CCB-4E6D80D2DECF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maining slides have been designed to illustrate the articl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rolling the cell cyc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in the September 2011 issue of Biological Sciences Review. This slide shows the life cycle of fission ye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3389-BFD0-43C4-BAFD-59B82AEAA340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wild yeast, the cell divides at both 25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 and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CA44-0008-46E7-BA73-861CC6822C77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 with a mutant cell division cycle (cdc) gene divides normally at 25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  The cell does not divide at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 because the protein synthesised by the cell is unstable at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3946-D424-4ADC-B8FD-58FC3E861838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utant gene can be identified by adding pieces of DNA from the yeast gene library. If the mutant cell divides at 36</a:t>
            </a: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, the DNA has complemented the mutant gene. The DNA can then be seque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F962-5830-4D07-8132-1F014BA0E689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like this has shown that the cell cycle is controlled by a number of genes that regulate different stages in the cycle. More detail is provided in the 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D0EB-8A01-4102-88D4-E26159B2558E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first slide introduces the cell cycle as a continuous cycle of cell growth which takes place during interphase and cell division. During mitosis the genetic material in the cell div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AE5F-8160-42E3-95C5-D0635809DB10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xt group of slides introduces mitosis. The idea behind this is to provide candidates with a simple overview of what is happening. This diagram presents the terms with which A-level candidates are expected to be famili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7414-6377-4DDA-BCCC-9713164219AF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can use a simple model of what happens during mitosis by using pairs of pencils instead of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5C2C-57E1-4404-BC52-D85C2591F7A5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in a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cell, the chromosomes are in homologous pairs. One member of each pair, the maternal chromosome, was originally derived from the mother; the other, the paternal chromosome, was derived from the fa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989-9D35-4A9A-833F-99914F2A7CD0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ing back to our pencil/pen model, this next slide shows what happens during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95B4-F3AD-4F4C-AC7E-517DADAA734E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useful to divide the whole process into a number of s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04B6-7B42-492C-BE11-DA10DCB5BAC7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ph showing some measurements made in a cell undergoing mitosis. There are questions relating to this graph on the accompanying worksh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F5E5-B772-4E9B-A63C-1097A353681B}" type="slidenum">
              <a:rPr b="1" lang="en-US" sz="1200" spc="-1" strike="noStrike">
                <a:solidFill>
                  <a:srgbClr val="180e63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266688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4657320"/>
            <a:ext cx="26989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465732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2666880"/>
            <a:ext cx="40903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4657320"/>
            <a:ext cx="83822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6" descr="BSR banner"/>
          <p:cNvPicPr/>
          <p:nvPr/>
        </p:nvPicPr>
        <p:blipFill>
          <a:blip r:embed="rId2"/>
          <a:stretch/>
        </p:blipFill>
        <p:spPr>
          <a:xfrm>
            <a:off x="-3240" y="0"/>
            <a:ext cx="9151920" cy="143820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"/>
          <p:cNvSpPr/>
          <p:nvPr/>
        </p:nvSpPr>
        <p:spPr>
          <a:xfrm>
            <a:off x="304920" y="2438280"/>
            <a:ext cx="85341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25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228600" y="1523880"/>
            <a:ext cx="868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380880" y="930240"/>
            <a:ext cx="3429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808080"/>
                </a:solidFill>
                <a:latin typeface="Verdana"/>
              </a:rPr>
              <a:t>Cell division</a:t>
            </a:r>
            <a:endParaRPr b="1" lang="en-US" sz="22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e6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1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2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3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4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5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6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1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BSR divider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2"/>
          <p:cNvSpPr/>
          <p:nvPr/>
        </p:nvSpPr>
        <p:spPr>
          <a:xfrm>
            <a:off x="304920" y="2438280"/>
            <a:ext cx="853416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25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8600" y="1523880"/>
            <a:ext cx="8683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60020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0e63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26668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Click to edit the outline text format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1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con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2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Third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3" marL="343080" indent="-343080">
              <a:lnSpc>
                <a:spcPct val="125000"/>
              </a:lnSpc>
              <a:spcBef>
                <a:spcPts val="462"/>
              </a:spcBef>
              <a:buClr>
                <a:srgbClr val="180e63"/>
              </a:buClr>
              <a:buFont typeface="Verdana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our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4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Fif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5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ix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  <a:p>
            <a:pPr lvl="6" marL="343080" indent="-343080">
              <a:lnSpc>
                <a:spcPct val="125000"/>
              </a:lnSpc>
              <a:spcBef>
                <a:spcPts val="462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180e63"/>
                </a:solidFill>
                <a:latin typeface="Verdana"/>
              </a:rPr>
              <a:t>Seventh Outline Level</a:t>
            </a:r>
            <a:endParaRPr b="0" lang="en-US" sz="15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8080"/>
                </a:solidFill>
                <a:latin typeface="Verdana"/>
              </a:rPr>
              <a:t>Cell division</a:t>
            </a:r>
            <a:endParaRPr b="1" lang="en-US" sz="40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1042920" y="2852640"/>
          <a:ext cx="7080480" cy="2895840"/>
        </p:xfrm>
        <a:graphic>
          <a:graphicData uri="http://schemas.openxmlformats.org/drawingml/2006/table">
            <a:tbl>
              <a:tblPr/>
              <a:tblGrid>
                <a:gridCol w="3540240"/>
                <a:gridCol w="35402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ase of cell cycl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ntage of cells in this 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3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a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.8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6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lo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8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hase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.5</a:t>
                      </a:r>
                      <a:endParaRPr b="1" lang="en-US" sz="2200" spc="-1" strike="noStrike">
                        <a:solidFill>
                          <a:srgbClr val="180e63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2" name="TextBox 2"/>
          <p:cNvSpPr/>
          <p:nvPr/>
        </p:nvSpPr>
        <p:spPr>
          <a:xfrm>
            <a:off x="250920" y="169236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The percentage of cells from a plant root tip at different stages of 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traight Connector 6"/>
          <p:cNvSpPr/>
          <p:nvPr/>
        </p:nvSpPr>
        <p:spPr>
          <a:xfrm flipH="1">
            <a:off x="2410920" y="2421000"/>
            <a:ext cx="1800" cy="309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4" name="Straight Connector 7"/>
          <p:cNvSpPr/>
          <p:nvPr/>
        </p:nvSpPr>
        <p:spPr>
          <a:xfrm flipH="1">
            <a:off x="2268360" y="5516640"/>
            <a:ext cx="5328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5" name="Straight Connector 26"/>
          <p:cNvSpPr/>
          <p:nvPr/>
        </p:nvSpPr>
        <p:spPr>
          <a:xfrm>
            <a:off x="226836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6" name="Straight Connector 27"/>
          <p:cNvSpPr/>
          <p:nvPr/>
        </p:nvSpPr>
        <p:spPr>
          <a:xfrm>
            <a:off x="2268360" y="43657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7" name="Straight Connector 29"/>
          <p:cNvSpPr/>
          <p:nvPr/>
        </p:nvSpPr>
        <p:spPr>
          <a:xfrm>
            <a:off x="2268360" y="378936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8" name="Straight Connector 31"/>
          <p:cNvSpPr/>
          <p:nvPr/>
        </p:nvSpPr>
        <p:spPr>
          <a:xfrm>
            <a:off x="2268360" y="3213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9" name="Straight Connector 32"/>
          <p:cNvSpPr/>
          <p:nvPr/>
        </p:nvSpPr>
        <p:spPr>
          <a:xfrm>
            <a:off x="2268360" y="2637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0" name="Straight Connector 39"/>
          <p:cNvSpPr/>
          <p:nvPr/>
        </p:nvSpPr>
        <p:spPr>
          <a:xfrm>
            <a:off x="2413080" y="4365720"/>
            <a:ext cx="6462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1" name="TextBox 42"/>
          <p:cNvSpPr/>
          <p:nvPr/>
        </p:nvSpPr>
        <p:spPr>
          <a:xfrm>
            <a:off x="1332000" y="5516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                       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ime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2" name="TextBox 43"/>
          <p:cNvSpPr/>
          <p:nvPr/>
        </p:nvSpPr>
        <p:spPr>
          <a:xfrm>
            <a:off x="169236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5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3" name="TextBox 44"/>
          <p:cNvSpPr/>
          <p:nvPr/>
        </p:nvSpPr>
        <p:spPr>
          <a:xfrm>
            <a:off x="1692360" y="29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4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4" name="TextBox 45"/>
          <p:cNvSpPr/>
          <p:nvPr/>
        </p:nvSpPr>
        <p:spPr>
          <a:xfrm>
            <a:off x="169236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3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5" name="TextBox 46"/>
          <p:cNvSpPr/>
          <p:nvPr/>
        </p:nvSpPr>
        <p:spPr>
          <a:xfrm>
            <a:off x="1692360" y="4149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2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6" name="TextBox 47"/>
          <p:cNvSpPr/>
          <p:nvPr/>
        </p:nvSpPr>
        <p:spPr>
          <a:xfrm>
            <a:off x="169236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7" name="TextBox 48"/>
          <p:cNvSpPr/>
          <p:nvPr/>
        </p:nvSpPr>
        <p:spPr>
          <a:xfrm>
            <a:off x="176364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58" name="TextBox 49"/>
          <p:cNvSpPr/>
          <p:nvPr/>
        </p:nvSpPr>
        <p:spPr>
          <a:xfrm>
            <a:off x="250920" y="2924280"/>
            <a:ext cx="15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Mass of DNA / </a:t>
            </a:r>
            <a:r>
              <a:rPr b="0" lang="en-GB" sz="2400" spc="-1" strike="noStrike">
                <a:solidFill>
                  <a:srgbClr val="180e63"/>
                </a:solidFill>
                <a:latin typeface="Arial"/>
              </a:rPr>
              <a:t>arbitrary unit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cxnSp>
        <p:nvCxnSpPr>
          <p:cNvPr id="259" name="Straight Arrow Connector 29"/>
          <p:cNvCxnSpPr/>
          <p:nvPr/>
        </p:nvCxnSpPr>
        <p:spPr>
          <a:xfrm>
            <a:off x="6372000" y="5732640"/>
            <a:ext cx="8643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60" name="Straight Connector 39"/>
          <p:cNvSpPr/>
          <p:nvPr/>
        </p:nvSpPr>
        <p:spPr>
          <a:xfrm flipV="1">
            <a:off x="3131280" y="3141720"/>
            <a:ext cx="57636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1" name="Straight Connector 39"/>
          <p:cNvSpPr/>
          <p:nvPr/>
        </p:nvSpPr>
        <p:spPr>
          <a:xfrm>
            <a:off x="3708360" y="3141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2" name="Straight Connector 39"/>
          <p:cNvSpPr/>
          <p:nvPr/>
        </p:nvSpPr>
        <p:spPr>
          <a:xfrm>
            <a:off x="4427640" y="3141720"/>
            <a:ext cx="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3" name="Straight Connector 39"/>
          <p:cNvSpPr/>
          <p:nvPr/>
        </p:nvSpPr>
        <p:spPr>
          <a:xfrm>
            <a:off x="4500720" y="4365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4" name="Straight Connector 39"/>
          <p:cNvSpPr/>
          <p:nvPr/>
        </p:nvSpPr>
        <p:spPr>
          <a:xfrm flipV="1">
            <a:off x="5218920" y="3141720"/>
            <a:ext cx="57636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5" name="Straight Connector 39"/>
          <p:cNvSpPr/>
          <p:nvPr/>
        </p:nvSpPr>
        <p:spPr>
          <a:xfrm>
            <a:off x="5796000" y="3141720"/>
            <a:ext cx="647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6" name="Straight Connector 39"/>
          <p:cNvSpPr/>
          <p:nvPr/>
        </p:nvSpPr>
        <p:spPr>
          <a:xfrm>
            <a:off x="6516720" y="3141720"/>
            <a:ext cx="0" cy="12240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7" name="Straight Connector 39"/>
          <p:cNvSpPr/>
          <p:nvPr/>
        </p:nvSpPr>
        <p:spPr>
          <a:xfrm>
            <a:off x="6588000" y="436572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Circular Arrow 4"/>
          <p:cNvSpPr/>
          <p:nvPr/>
        </p:nvSpPr>
        <p:spPr>
          <a:xfrm>
            <a:off x="1835280" y="1413000"/>
            <a:ext cx="4752720" cy="4608360"/>
          </a:xfrm>
          <a:custGeom>
            <a:avLst/>
            <a:gdLst/>
            <a:ahLst/>
            <a:rect l="l" t="t" r="r" b="b"/>
            <a:pathLst>
              <a:path w="4752975" h="4608513">
                <a:moveTo>
                  <a:pt x="2425889" y="4319917"/>
                </a:moveTo>
                <a:cubicBezTo>
                  <a:pt x="1348626" y="4344525"/>
                  <a:pt x="428825" y="3573841"/>
                  <a:pt x="302446" y="2540724"/>
                </a:cubicBezTo>
                <a:cubicBezTo>
                  <a:pt x="174588" y="1495516"/>
                  <a:pt x="900984" y="531199"/>
                  <a:pt x="1970346" y="326525"/>
                </a:cubicBezTo>
                <a:cubicBezTo>
                  <a:pt x="3018099" y="125987"/>
                  <a:pt x="4053722" y="721017"/>
                  <a:pt x="4370802" y="1705738"/>
                </a:cubicBezTo>
                <a:lnTo>
                  <a:pt x="4646201" y="1693018"/>
                </a:lnTo>
                <a:lnTo>
                  <a:pt x="4174830" y="2221196"/>
                </a:lnTo>
                <a:lnTo>
                  <a:pt x="3495299" y="1746175"/>
                </a:lnTo>
                <a:lnTo>
                  <a:pt x="3765132" y="1733712"/>
                </a:lnTo>
                <a:cubicBezTo>
                  <a:pt x="3469147" y="1080484"/>
                  <a:pt x="2716599" y="730943"/>
                  <a:pt x="1993793" y="910965"/>
                </a:cubicBezTo>
                <a:cubicBezTo>
                  <a:pt x="1243568" y="1097816"/>
                  <a:pt x="763310" y="1794720"/>
                  <a:pt x="881881" y="2524462"/>
                </a:cubicBezTo>
                <a:cubicBezTo>
                  <a:pt x="997994" y="3239075"/>
                  <a:pt x="1652598" y="3760895"/>
                  <a:pt x="2411775" y="3744024"/>
                </a:cubicBezTo>
                <a:lnTo>
                  <a:pt x="2425889" y="4319917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69" name="Pie 13"/>
          <p:cNvSpPr/>
          <p:nvPr/>
        </p:nvSpPr>
        <p:spPr>
          <a:xfrm rot="13454400">
            <a:off x="1963440" y="1272960"/>
            <a:ext cx="4860720" cy="4817880"/>
          </a:xfrm>
          <a:custGeom>
            <a:avLst/>
            <a:gdLst/>
            <a:ahLst/>
            <a:rect l="l" t="t" r="r" b="b"/>
            <a:pathLst>
              <a:path w="4860925" h="4818063">
                <a:moveTo>
                  <a:pt x="9902" y="2626269"/>
                </a:moveTo>
                <a:cubicBezTo>
                  <a:pt x="-23814" y="2257181"/>
                  <a:pt x="28835" y="1885359"/>
                  <a:pt x="163755" y="1539731"/>
                </a:cubicBezTo>
                <a:lnTo>
                  <a:pt x="2430463" y="2409032"/>
                </a:lnTo>
                <a:lnTo>
                  <a:pt x="9902" y="2626269"/>
                </a:lnTo>
                <a:close/>
              </a:path>
            </a:pathLst>
          </a:custGeom>
          <a:solidFill>
            <a:srgbClr val="1e464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50920" y="270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ter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1" name="Pie 6"/>
          <p:cNvSpPr/>
          <p:nvPr/>
        </p:nvSpPr>
        <p:spPr>
          <a:xfrm rot="10800000">
            <a:off x="1907640" y="1125000"/>
            <a:ext cx="5040360" cy="4805640"/>
          </a:xfrm>
          <a:custGeom>
            <a:avLst/>
            <a:gdLst/>
            <a:ahLst/>
            <a:rect l="l" t="t" r="r" b="b"/>
            <a:pathLst>
              <a:path w="5040313" h="4805362">
                <a:moveTo>
                  <a:pt x="8724" y="2202936"/>
                </a:moveTo>
                <a:cubicBezTo>
                  <a:pt x="30617" y="1952738"/>
                  <a:pt x="93506" y="1707358"/>
                  <a:pt x="195104" y="1475728"/>
                </a:cubicBezTo>
                <a:lnTo>
                  <a:pt x="2520157" y="2402681"/>
                </a:lnTo>
                <a:lnTo>
                  <a:pt x="8724" y="2202936"/>
                </a:lnTo>
                <a:close/>
              </a:path>
            </a:pathLst>
          </a:cu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2" name="Pie 7"/>
          <p:cNvSpPr/>
          <p:nvPr/>
        </p:nvSpPr>
        <p:spPr>
          <a:xfrm rot="11702400">
            <a:off x="1998720" y="1319040"/>
            <a:ext cx="4889520" cy="4677120"/>
          </a:xfrm>
          <a:custGeom>
            <a:avLst/>
            <a:gdLst/>
            <a:ahLst/>
            <a:rect l="l" t="t" r="r" b="b"/>
            <a:pathLst>
              <a:path w="4889500" h="4676775">
                <a:moveTo>
                  <a:pt x="20433" y="2036691"/>
                </a:moveTo>
                <a:cubicBezTo>
                  <a:pt x="48895" y="1827446"/>
                  <a:pt x="106837" y="1622849"/>
                  <a:pt x="192679" y="1428471"/>
                </a:cubicBezTo>
                <a:lnTo>
                  <a:pt x="2444750" y="2338388"/>
                </a:lnTo>
                <a:lnTo>
                  <a:pt x="20433" y="2036691"/>
                </a:ln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3" name="Pie 8"/>
          <p:cNvSpPr/>
          <p:nvPr/>
        </p:nvSpPr>
        <p:spPr>
          <a:xfrm rot="15097800">
            <a:off x="1778040" y="1309320"/>
            <a:ext cx="4992480" cy="4694400"/>
          </a:xfrm>
          <a:custGeom>
            <a:avLst/>
            <a:gdLst/>
            <a:ahLst/>
            <a:rect l="l" t="t" r="r" b="b"/>
            <a:pathLst>
              <a:path w="4992687" h="4694238">
                <a:moveTo>
                  <a:pt x="17817" y="2627045"/>
                </a:moveTo>
                <a:cubicBezTo>
                  <a:pt x="-18043" y="2346355"/>
                  <a:pt x="325" y="2061882"/>
                  <a:pt x="72037" y="1787333"/>
                </a:cubicBezTo>
                <a:lnTo>
                  <a:pt x="2496344" y="2347119"/>
                </a:lnTo>
                <a:lnTo>
                  <a:pt x="17817" y="2627045"/>
                </a:lnTo>
                <a:close/>
              </a:path>
            </a:pathLst>
          </a:custGeom>
          <a:solidFill>
            <a:srgbClr val="0c1c1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7020000" y="38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pr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5" name="TextBox 10"/>
          <p:cNvSpPr/>
          <p:nvPr/>
        </p:nvSpPr>
        <p:spPr>
          <a:xfrm>
            <a:off x="6804000" y="465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met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622764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an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514836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el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Circular Arrow 4"/>
          <p:cNvSpPr/>
          <p:nvPr/>
        </p:nvSpPr>
        <p:spPr>
          <a:xfrm>
            <a:off x="1547640" y="126828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2622006" y="4306499"/>
                </a:moveTo>
                <a:cubicBezTo>
                  <a:pt x="1530438" y="4431250"/>
                  <a:pt x="525541" y="3717809"/>
                  <a:pt x="323585" y="2674701"/>
                </a:cubicBezTo>
                <a:cubicBezTo>
                  <a:pt x="117992" y="1612813"/>
                  <a:pt x="815846" y="583174"/>
                  <a:pt x="1906070" y="339845"/>
                </a:cubicBezTo>
                <a:cubicBezTo>
                  <a:pt x="2971335" y="102086"/>
                  <a:pt x="4046238" y="697770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62045" y="1064808"/>
                  <a:pt x="2682122" y="716778"/>
                  <a:pt x="1948365" y="923002"/>
                </a:cubicBezTo>
                <a:cubicBezTo>
                  <a:pt x="1184088" y="1137804"/>
                  <a:pt x="725956" y="1880452"/>
                  <a:pt x="901061" y="2620718"/>
                </a:cubicBezTo>
                <a:cubicBezTo>
                  <a:pt x="1071081" y="3339486"/>
                  <a:pt x="1783383" y="3820147"/>
                  <a:pt x="2551891" y="3734698"/>
                </a:cubicBezTo>
                <a:lnTo>
                  <a:pt x="2622006" y="4306499"/>
                </a:lnTo>
                <a:close/>
              </a:path>
            </a:pathLst>
          </a:custGeom>
          <a:solidFill>
            <a:srgbClr val="d4ec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79" name="Pie 13"/>
          <p:cNvSpPr/>
          <p:nvPr/>
        </p:nvSpPr>
        <p:spPr>
          <a:xfrm rot="13454400">
            <a:off x="1963440" y="1272960"/>
            <a:ext cx="4860720" cy="4817880"/>
          </a:xfrm>
          <a:custGeom>
            <a:avLst/>
            <a:gdLst/>
            <a:ahLst/>
            <a:rect l="l" t="t" r="r" b="b"/>
            <a:pathLst>
              <a:path w="4860925" h="4818063">
                <a:moveTo>
                  <a:pt x="9902" y="2626269"/>
                </a:moveTo>
                <a:cubicBezTo>
                  <a:pt x="-23814" y="2257181"/>
                  <a:pt x="28835" y="1885359"/>
                  <a:pt x="163755" y="1539731"/>
                </a:cubicBezTo>
                <a:lnTo>
                  <a:pt x="2430463" y="2409032"/>
                </a:lnTo>
                <a:lnTo>
                  <a:pt x="9902" y="2626269"/>
                </a:lnTo>
                <a:close/>
              </a:path>
            </a:pathLst>
          </a:custGeom>
          <a:solidFill>
            <a:srgbClr val="1e464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1116000" y="530064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1 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1" name="Pie 6"/>
          <p:cNvSpPr/>
          <p:nvPr/>
        </p:nvSpPr>
        <p:spPr>
          <a:xfrm rot="10800000">
            <a:off x="1907640" y="1125000"/>
            <a:ext cx="5040360" cy="4805640"/>
          </a:xfrm>
          <a:custGeom>
            <a:avLst/>
            <a:gdLst/>
            <a:ahLst/>
            <a:rect l="l" t="t" r="r" b="b"/>
            <a:pathLst>
              <a:path w="5040313" h="4805362">
                <a:moveTo>
                  <a:pt x="8724" y="2202936"/>
                </a:moveTo>
                <a:cubicBezTo>
                  <a:pt x="30617" y="1952738"/>
                  <a:pt x="93506" y="1707358"/>
                  <a:pt x="195104" y="1475728"/>
                </a:cubicBezTo>
                <a:lnTo>
                  <a:pt x="2520157" y="2402681"/>
                </a:lnTo>
                <a:lnTo>
                  <a:pt x="8724" y="2202936"/>
                </a:lnTo>
                <a:close/>
              </a:path>
            </a:pathLst>
          </a:custGeom>
          <a:solidFill>
            <a:srgbClr val="9ed3d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2" name="Pie 7"/>
          <p:cNvSpPr/>
          <p:nvPr/>
        </p:nvSpPr>
        <p:spPr>
          <a:xfrm rot="11702400">
            <a:off x="1998720" y="1319040"/>
            <a:ext cx="4889520" cy="4677120"/>
          </a:xfrm>
          <a:custGeom>
            <a:avLst/>
            <a:gdLst/>
            <a:ahLst/>
            <a:rect l="l" t="t" r="r" b="b"/>
            <a:pathLst>
              <a:path w="4889500" h="4676775">
                <a:moveTo>
                  <a:pt x="20433" y="2036691"/>
                </a:moveTo>
                <a:cubicBezTo>
                  <a:pt x="48895" y="1827446"/>
                  <a:pt x="106837" y="1622849"/>
                  <a:pt x="192679" y="1428471"/>
                </a:cubicBezTo>
                <a:lnTo>
                  <a:pt x="2444750" y="2338388"/>
                </a:lnTo>
                <a:lnTo>
                  <a:pt x="20433" y="2036691"/>
                </a:lnTo>
                <a:close/>
              </a:path>
            </a:pathLst>
          </a:custGeom>
          <a:solidFill>
            <a:srgbClr val="3c8c9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3" name="Pie 8"/>
          <p:cNvSpPr/>
          <p:nvPr/>
        </p:nvSpPr>
        <p:spPr>
          <a:xfrm rot="15097800">
            <a:off x="1778040" y="1309320"/>
            <a:ext cx="4992480" cy="4694400"/>
          </a:xfrm>
          <a:custGeom>
            <a:avLst/>
            <a:gdLst/>
            <a:ahLst/>
            <a:rect l="l" t="t" r="r" b="b"/>
            <a:pathLst>
              <a:path w="4992687" h="4694238">
                <a:moveTo>
                  <a:pt x="17817" y="2627045"/>
                </a:moveTo>
                <a:cubicBezTo>
                  <a:pt x="-18043" y="2346355"/>
                  <a:pt x="325" y="2061882"/>
                  <a:pt x="72037" y="1787333"/>
                </a:cubicBezTo>
                <a:lnTo>
                  <a:pt x="2496344" y="2347119"/>
                </a:lnTo>
                <a:lnTo>
                  <a:pt x="17817" y="2627045"/>
                </a:lnTo>
                <a:close/>
              </a:path>
            </a:pathLst>
          </a:custGeom>
          <a:solidFill>
            <a:srgbClr val="0c1c1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7020000" y="38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pr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5" name="TextBox 10"/>
          <p:cNvSpPr/>
          <p:nvPr/>
        </p:nvSpPr>
        <p:spPr>
          <a:xfrm>
            <a:off x="6804000" y="465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met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6" name="TextBox 11"/>
          <p:cNvSpPr/>
          <p:nvPr/>
        </p:nvSpPr>
        <p:spPr>
          <a:xfrm>
            <a:off x="622764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ana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7" name="TextBox 16"/>
          <p:cNvSpPr/>
          <p:nvPr/>
        </p:nvSpPr>
        <p:spPr>
          <a:xfrm>
            <a:off x="514836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elo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8" name="Circular Arrow 12"/>
          <p:cNvSpPr/>
          <p:nvPr/>
        </p:nvSpPr>
        <p:spPr>
          <a:xfrm>
            <a:off x="1547640" y="126828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679086" y="3478921"/>
                </a:moveTo>
                <a:cubicBezTo>
                  <a:pt x="184289" y="2812536"/>
                  <a:pt x="156764" y="1923247"/>
                  <a:pt x="609465" y="1229530"/>
                </a:cubicBezTo>
                <a:cubicBezTo>
                  <a:pt x="1040981" y="568276"/>
                  <a:pt x="1829462" y="207337"/>
                  <a:pt x="2632878" y="303283"/>
                </a:cubicBezTo>
                <a:cubicBezTo>
                  <a:pt x="3447277" y="400541"/>
                  <a:pt x="4127206" y="949222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538762" y="1234119"/>
                  <a:pt x="3036031" y="898667"/>
                  <a:pt x="2465622" y="866599"/>
                </a:cubicBezTo>
                <a:cubicBezTo>
                  <a:pt x="1900431" y="834825"/>
                  <a:pt x="1363936" y="1106315"/>
                  <a:pt x="1075334" y="1570148"/>
                </a:cubicBezTo>
                <a:cubicBezTo>
                  <a:pt x="767662" y="2064630"/>
                  <a:pt x="798211" y="2685970"/>
                  <a:pt x="1153056" y="3150915"/>
                </a:cubicBezTo>
                <a:lnTo>
                  <a:pt x="679086" y="3478921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89" name="Circular Arrow 15"/>
          <p:cNvSpPr/>
          <p:nvPr/>
        </p:nvSpPr>
        <p:spPr>
          <a:xfrm>
            <a:off x="1547640" y="126828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1638572" y="418082"/>
                </a:moveTo>
                <a:cubicBezTo>
                  <a:pt x="2167027" y="225392"/>
                  <a:pt x="2753797" y="247588"/>
                  <a:pt x="3265015" y="479607"/>
                </a:cubicBezTo>
                <a:cubicBezTo>
                  <a:pt x="3795522" y="720381"/>
                  <a:pt x="4196788" y="1165316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46034" y="1029472"/>
                  <a:pt x="2603300" y="686944"/>
                  <a:pt x="1848511" y="954703"/>
                </a:cubicBezTo>
                <a:lnTo>
                  <a:pt x="1638572" y="418082"/>
                </a:lnTo>
                <a:close/>
              </a:path>
            </a:pathLst>
          </a:custGeom>
          <a:solidFill>
            <a:srgbClr val="3d5d1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324000" y="3068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S 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1" name="TextBox 18"/>
          <p:cNvSpPr/>
          <p:nvPr/>
        </p:nvSpPr>
        <p:spPr>
          <a:xfrm>
            <a:off x="5364000" y="17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2 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3"/>
          <p:cNvSpPr/>
          <p:nvPr/>
        </p:nvSpPr>
        <p:spPr>
          <a:xfrm>
            <a:off x="3132000" y="2681280"/>
            <a:ext cx="216072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908000" y="4481640"/>
            <a:ext cx="431964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4" name="Oval 5"/>
          <p:cNvSpPr/>
          <p:nvPr/>
        </p:nvSpPr>
        <p:spPr>
          <a:xfrm>
            <a:off x="3995640" y="3041640"/>
            <a:ext cx="432000" cy="43020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5" name="Oval 6"/>
          <p:cNvSpPr/>
          <p:nvPr/>
        </p:nvSpPr>
        <p:spPr>
          <a:xfrm>
            <a:off x="3851280" y="4842000"/>
            <a:ext cx="431640" cy="43164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6" name="Oval 7"/>
          <p:cNvSpPr/>
          <p:nvPr/>
        </p:nvSpPr>
        <p:spPr>
          <a:xfrm>
            <a:off x="3851280" y="4842000"/>
            <a:ext cx="431640" cy="43020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7" name="Straight Connector 9"/>
          <p:cNvSpPr/>
          <p:nvPr/>
        </p:nvSpPr>
        <p:spPr>
          <a:xfrm>
            <a:off x="4067280" y="448164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8" name="Circular Arrow 13"/>
          <p:cNvSpPr/>
          <p:nvPr/>
        </p:nvSpPr>
        <p:spPr>
          <a:xfrm>
            <a:off x="6804000" y="1701720"/>
            <a:ext cx="1835280" cy="1727280"/>
          </a:xfrm>
          <a:custGeom>
            <a:avLst/>
            <a:gdLst/>
            <a:ahLst/>
            <a:rect l="l" t="t" r="r" b="b"/>
            <a:pathLst>
              <a:path w="1835150" h="1727200">
                <a:moveTo>
                  <a:pt x="936090" y="1619052"/>
                </a:moveTo>
                <a:cubicBezTo>
                  <a:pt x="519294" y="1627951"/>
                  <a:pt x="163398" y="1339983"/>
                  <a:pt x="113719" y="953644"/>
                </a:cubicBezTo>
                <a:cubicBezTo>
                  <a:pt x="62915" y="558557"/>
                  <a:pt x="349096" y="194396"/>
                  <a:pt x="768114" y="120937"/>
                </a:cubicBezTo>
                <a:cubicBezTo>
                  <a:pt x="1170980" y="50310"/>
                  <a:pt x="1566838" y="271850"/>
                  <a:pt x="1689871" y="636794"/>
                </a:cubicBezTo>
                <a:lnTo>
                  <a:pt x="1790724" y="636795"/>
                </a:lnTo>
                <a:lnTo>
                  <a:pt x="1619250" y="863600"/>
                </a:lnTo>
                <a:lnTo>
                  <a:pt x="1358924" y="636795"/>
                </a:lnTo>
                <a:lnTo>
                  <a:pt x="1456339" y="636795"/>
                </a:lnTo>
                <a:cubicBezTo>
                  <a:pt x="1336126" y="400796"/>
                  <a:pt x="1047883" y="276288"/>
                  <a:pt x="770694" y="340628"/>
                </a:cubicBezTo>
                <a:cubicBezTo>
                  <a:pt x="472172" y="409919"/>
                  <a:pt x="281553" y="675285"/>
                  <a:pt x="331799" y="951625"/>
                </a:cubicBezTo>
                <a:cubicBezTo>
                  <a:pt x="379998" y="1216708"/>
                  <a:pt x="635326" y="1409201"/>
                  <a:pt x="930801" y="1403216"/>
                </a:cubicBezTo>
                <a:lnTo>
                  <a:pt x="936090" y="1619052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99" name="Pie 14"/>
          <p:cNvSpPr/>
          <p:nvPr/>
        </p:nvSpPr>
        <p:spPr>
          <a:xfrm rot="10800000">
            <a:off x="7019640" y="1844640"/>
            <a:ext cx="1655640" cy="1657440"/>
          </a:xfrm>
          <a:custGeom>
            <a:avLst/>
            <a:gdLst/>
            <a:ahLst/>
            <a:rect l="l" t="t" r="r" b="b"/>
            <a:pathLst>
              <a:path w="1655763" h="1657350">
                <a:moveTo>
                  <a:pt x="0" y="828675"/>
                </a:moveTo>
                <a:cubicBezTo>
                  <a:pt x="0" y="371010"/>
                  <a:pt x="370655" y="0"/>
                  <a:pt x="827882" y="0"/>
                </a:cubicBezTo>
                <a:lnTo>
                  <a:pt x="827882" y="828675"/>
                </a:lnTo>
                <a:lnTo>
                  <a:pt x="0" y="828675"/>
                </a:lnTo>
                <a:close/>
              </a:path>
            </a:pathLst>
          </a:cu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0" name="TextBox 10"/>
          <p:cNvSpPr/>
          <p:nvPr/>
        </p:nvSpPr>
        <p:spPr>
          <a:xfrm>
            <a:off x="324000" y="1700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Fission yeast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09898E-006 L -0.08646 3.09898E-006 E">
                                      <p:cBhvr>
                                        <p:cTn id="8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0.09462 3.09898E-006 E">
                                      <p:cBhvr>
                                        <p:cTn id="86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1476360" y="2492280"/>
            <a:ext cx="158292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2124000" y="2708280"/>
            <a:ext cx="287280" cy="2890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53964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1187280" y="4365720"/>
            <a:ext cx="28908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2484360" y="4149720"/>
            <a:ext cx="158292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6" name="Oval 16"/>
          <p:cNvSpPr/>
          <p:nvPr/>
        </p:nvSpPr>
        <p:spPr>
          <a:xfrm>
            <a:off x="3132000" y="4365720"/>
            <a:ext cx="28764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227640" y="2492280"/>
            <a:ext cx="158436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8" name="Oval 18"/>
          <p:cNvSpPr/>
          <p:nvPr/>
        </p:nvSpPr>
        <p:spPr>
          <a:xfrm>
            <a:off x="6875640" y="2708280"/>
            <a:ext cx="288720" cy="2890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730872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0" name="Oval 20"/>
          <p:cNvSpPr/>
          <p:nvPr/>
        </p:nvSpPr>
        <p:spPr>
          <a:xfrm>
            <a:off x="7956720" y="4365720"/>
            <a:ext cx="28728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521964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2" name="Oval 22"/>
          <p:cNvSpPr/>
          <p:nvPr/>
        </p:nvSpPr>
        <p:spPr>
          <a:xfrm>
            <a:off x="5867280" y="4365720"/>
            <a:ext cx="289080" cy="287280"/>
          </a:xfrm>
          <a:prstGeom prst="ellipse">
            <a:avLst/>
          </a:prstGeom>
          <a:solidFill>
            <a:srgbClr val="1919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3" name="Striped Right Arrow 23"/>
          <p:cNvSpPr/>
          <p:nvPr/>
        </p:nvSpPr>
        <p:spPr>
          <a:xfrm rot="2779200">
            <a:off x="2529000" y="3550680"/>
            <a:ext cx="71928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8" y="107950"/>
                </a:lnTo>
                <a:lnTo>
                  <a:pt x="503238" y="0"/>
                </a:lnTo>
                <a:lnTo>
                  <a:pt x="719138" y="215900"/>
                </a:lnTo>
                <a:lnTo>
                  <a:pt x="503238" y="431800"/>
                </a:lnTo>
                <a:lnTo>
                  <a:pt x="50323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4" name="Striped Right Arrow 24"/>
          <p:cNvSpPr/>
          <p:nvPr/>
        </p:nvSpPr>
        <p:spPr>
          <a:xfrm rot="2779200">
            <a:off x="7209000" y="3550680"/>
            <a:ext cx="71928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8" y="107950"/>
                </a:lnTo>
                <a:lnTo>
                  <a:pt x="503238" y="0"/>
                </a:lnTo>
                <a:lnTo>
                  <a:pt x="719138" y="215900"/>
                </a:lnTo>
                <a:lnTo>
                  <a:pt x="503238" y="431800"/>
                </a:lnTo>
                <a:lnTo>
                  <a:pt x="50323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5" name="Striped Right Arrow 25"/>
          <p:cNvSpPr/>
          <p:nvPr/>
        </p:nvSpPr>
        <p:spPr>
          <a:xfrm rot="8013000">
            <a:off x="1375920" y="3550680"/>
            <a:ext cx="720720" cy="431640"/>
          </a:xfrm>
          <a:custGeom>
            <a:avLst/>
            <a:gdLst/>
            <a:ahLst/>
            <a:rect l="l" t="t" r="r" b="b"/>
            <a:pathLst>
              <a:path w="720725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4825" y="107950"/>
                </a:lnTo>
                <a:lnTo>
                  <a:pt x="504825" y="0"/>
                </a:lnTo>
                <a:lnTo>
                  <a:pt x="720725" y="215900"/>
                </a:lnTo>
                <a:lnTo>
                  <a:pt x="504825" y="431800"/>
                </a:lnTo>
                <a:lnTo>
                  <a:pt x="504825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6" name="Striped Right Arrow 26"/>
          <p:cNvSpPr/>
          <p:nvPr/>
        </p:nvSpPr>
        <p:spPr>
          <a:xfrm rot="8013000">
            <a:off x="6128640" y="3549960"/>
            <a:ext cx="720720" cy="433440"/>
          </a:xfrm>
          <a:custGeom>
            <a:avLst/>
            <a:gdLst/>
            <a:ahLst/>
            <a:rect l="l" t="t" r="r" b="b"/>
            <a:pathLst>
              <a:path w="720725" h="433387">
                <a:moveTo>
                  <a:pt x="0" y="108347"/>
                </a:moveTo>
                <a:lnTo>
                  <a:pt x="13543" y="108347"/>
                </a:lnTo>
                <a:lnTo>
                  <a:pt x="13543" y="325040"/>
                </a:lnTo>
                <a:lnTo>
                  <a:pt x="0" y="325040"/>
                </a:lnTo>
                <a:lnTo>
                  <a:pt x="0" y="108347"/>
                </a:lnTo>
                <a:close/>
                <a:moveTo>
                  <a:pt x="27087" y="108347"/>
                </a:moveTo>
                <a:lnTo>
                  <a:pt x="54173" y="108347"/>
                </a:lnTo>
                <a:lnTo>
                  <a:pt x="54173" y="325040"/>
                </a:lnTo>
                <a:lnTo>
                  <a:pt x="27087" y="325040"/>
                </a:lnTo>
                <a:lnTo>
                  <a:pt x="27087" y="108347"/>
                </a:lnTo>
                <a:close/>
                <a:moveTo>
                  <a:pt x="67717" y="108347"/>
                </a:moveTo>
                <a:lnTo>
                  <a:pt x="504032" y="108347"/>
                </a:lnTo>
                <a:lnTo>
                  <a:pt x="504032" y="0"/>
                </a:lnTo>
                <a:lnTo>
                  <a:pt x="720725" y="216694"/>
                </a:lnTo>
                <a:lnTo>
                  <a:pt x="504032" y="433387"/>
                </a:lnTo>
                <a:lnTo>
                  <a:pt x="504032" y="325040"/>
                </a:lnTo>
                <a:lnTo>
                  <a:pt x="67717" y="325040"/>
                </a:lnTo>
                <a:lnTo>
                  <a:pt x="67717" y="108347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7" name="TextBox 27"/>
          <p:cNvSpPr/>
          <p:nvPr/>
        </p:nvSpPr>
        <p:spPr>
          <a:xfrm>
            <a:off x="1712880" y="21178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25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8" name="TextBox 28"/>
          <p:cNvSpPr/>
          <p:nvPr/>
        </p:nvSpPr>
        <p:spPr>
          <a:xfrm>
            <a:off x="6424560" y="21178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36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19" name="TextBox 30"/>
          <p:cNvSpPr/>
          <p:nvPr/>
        </p:nvSpPr>
        <p:spPr>
          <a:xfrm>
            <a:off x="1476360" y="5257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0" name="TextBox 32"/>
          <p:cNvSpPr/>
          <p:nvPr/>
        </p:nvSpPr>
        <p:spPr>
          <a:xfrm>
            <a:off x="6226200" y="5257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250920" y="167652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 wild yeast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3"/>
          <p:cNvSpPr/>
          <p:nvPr/>
        </p:nvSpPr>
        <p:spPr>
          <a:xfrm>
            <a:off x="1476360" y="2492280"/>
            <a:ext cx="158292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539640" y="4149720"/>
            <a:ext cx="1584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2484360" y="4149720"/>
            <a:ext cx="158292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6227640" y="2492280"/>
            <a:ext cx="158436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6" name="Oval 18"/>
          <p:cNvSpPr/>
          <p:nvPr/>
        </p:nvSpPr>
        <p:spPr>
          <a:xfrm>
            <a:off x="6875640" y="2708280"/>
            <a:ext cx="288720" cy="2890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580000" y="4149720"/>
            <a:ext cx="280836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8" name="Oval 22"/>
          <p:cNvSpPr/>
          <p:nvPr/>
        </p:nvSpPr>
        <p:spPr>
          <a:xfrm>
            <a:off x="6875640" y="4365720"/>
            <a:ext cx="28872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                                                       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29" name="Striped Right Arrow 23"/>
          <p:cNvSpPr/>
          <p:nvPr/>
        </p:nvSpPr>
        <p:spPr>
          <a:xfrm rot="2779200">
            <a:off x="2529000" y="3550680"/>
            <a:ext cx="719280" cy="431640"/>
          </a:xfrm>
          <a:custGeom>
            <a:avLst/>
            <a:gdLst/>
            <a:ahLst/>
            <a:rect l="l" t="t" r="r" b="b"/>
            <a:pathLst>
              <a:path w="71913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8" y="107950"/>
                </a:lnTo>
                <a:lnTo>
                  <a:pt x="503238" y="0"/>
                </a:lnTo>
                <a:lnTo>
                  <a:pt x="719138" y="215900"/>
                </a:lnTo>
                <a:lnTo>
                  <a:pt x="503238" y="431800"/>
                </a:lnTo>
                <a:lnTo>
                  <a:pt x="50323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0" name="Striped Right Arrow 25"/>
          <p:cNvSpPr/>
          <p:nvPr/>
        </p:nvSpPr>
        <p:spPr>
          <a:xfrm rot="8013000">
            <a:off x="1375920" y="3550680"/>
            <a:ext cx="720720" cy="431640"/>
          </a:xfrm>
          <a:custGeom>
            <a:avLst/>
            <a:gdLst/>
            <a:ahLst/>
            <a:rect l="l" t="t" r="r" b="b"/>
            <a:pathLst>
              <a:path w="720725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4825" y="107950"/>
                </a:lnTo>
                <a:lnTo>
                  <a:pt x="504825" y="0"/>
                </a:lnTo>
                <a:lnTo>
                  <a:pt x="720725" y="215900"/>
                </a:lnTo>
                <a:lnTo>
                  <a:pt x="504825" y="431800"/>
                </a:lnTo>
                <a:lnTo>
                  <a:pt x="504825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1" name="Striped Right Arrow 26"/>
          <p:cNvSpPr/>
          <p:nvPr/>
        </p:nvSpPr>
        <p:spPr>
          <a:xfrm rot="5400000">
            <a:off x="6660360" y="3501000"/>
            <a:ext cx="718920" cy="432000"/>
          </a:xfrm>
          <a:custGeom>
            <a:avLst/>
            <a:gdLst/>
            <a:ahLst/>
            <a:rect l="l" t="t" r="r" b="b"/>
            <a:pathLst>
              <a:path w="719137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3237" y="107950"/>
                </a:lnTo>
                <a:lnTo>
                  <a:pt x="503237" y="0"/>
                </a:lnTo>
                <a:lnTo>
                  <a:pt x="719137" y="215900"/>
                </a:lnTo>
                <a:lnTo>
                  <a:pt x="503237" y="431800"/>
                </a:lnTo>
                <a:lnTo>
                  <a:pt x="503237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2" name="TextBox 30"/>
          <p:cNvSpPr/>
          <p:nvPr/>
        </p:nvSpPr>
        <p:spPr>
          <a:xfrm>
            <a:off x="1476360" y="52578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5435640" y="53290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oes not divide and di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4" name="Oval 32"/>
          <p:cNvSpPr/>
          <p:nvPr/>
        </p:nvSpPr>
        <p:spPr>
          <a:xfrm>
            <a:off x="2124000" y="2781360"/>
            <a:ext cx="28728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5" name="Oval 33"/>
          <p:cNvSpPr/>
          <p:nvPr/>
        </p:nvSpPr>
        <p:spPr>
          <a:xfrm>
            <a:off x="1116000" y="4437000"/>
            <a:ext cx="28728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6" name="Oval 34"/>
          <p:cNvSpPr/>
          <p:nvPr/>
        </p:nvSpPr>
        <p:spPr>
          <a:xfrm>
            <a:off x="3132000" y="4437000"/>
            <a:ext cx="28764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7" name="TextBox 27"/>
          <p:cNvSpPr/>
          <p:nvPr/>
        </p:nvSpPr>
        <p:spPr>
          <a:xfrm>
            <a:off x="1712880" y="21178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25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8" name="TextBox 28"/>
          <p:cNvSpPr/>
          <p:nvPr/>
        </p:nvSpPr>
        <p:spPr>
          <a:xfrm>
            <a:off x="6424560" y="21178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36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39" name="TextBox 27"/>
          <p:cNvSpPr/>
          <p:nvPr/>
        </p:nvSpPr>
        <p:spPr>
          <a:xfrm>
            <a:off x="250920" y="167652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 yeast with a mutant cdc gene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1260360" y="2492280"/>
            <a:ext cx="158292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5292720" y="4221000"/>
            <a:ext cx="158292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236000" y="4221000"/>
            <a:ext cx="158400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6227640" y="2492280"/>
            <a:ext cx="1584360" cy="8654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4" name="Oval 18"/>
          <p:cNvSpPr/>
          <p:nvPr/>
        </p:nvSpPr>
        <p:spPr>
          <a:xfrm>
            <a:off x="6875640" y="2708280"/>
            <a:ext cx="288720" cy="2890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5" name="Striped Right Arrow 23"/>
          <p:cNvSpPr/>
          <p:nvPr/>
        </p:nvSpPr>
        <p:spPr>
          <a:xfrm rot="2779200">
            <a:off x="7280280" y="3622680"/>
            <a:ext cx="720720" cy="432000"/>
          </a:xfrm>
          <a:custGeom>
            <a:avLst/>
            <a:gdLst/>
            <a:ahLst/>
            <a:rect l="l" t="t" r="r" b="b"/>
            <a:pathLst>
              <a:path w="720725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504825" y="107950"/>
                </a:lnTo>
                <a:lnTo>
                  <a:pt x="504825" y="0"/>
                </a:lnTo>
                <a:lnTo>
                  <a:pt x="720725" y="215900"/>
                </a:lnTo>
                <a:lnTo>
                  <a:pt x="504825" y="431800"/>
                </a:lnTo>
                <a:lnTo>
                  <a:pt x="504825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6" name="Striped Right Arrow 25"/>
          <p:cNvSpPr/>
          <p:nvPr/>
        </p:nvSpPr>
        <p:spPr>
          <a:xfrm rot="8013000">
            <a:off x="6128640" y="3621600"/>
            <a:ext cx="720720" cy="433440"/>
          </a:xfrm>
          <a:custGeom>
            <a:avLst/>
            <a:gdLst/>
            <a:ahLst/>
            <a:rect l="l" t="t" r="r" b="b"/>
            <a:pathLst>
              <a:path w="720725" h="433387">
                <a:moveTo>
                  <a:pt x="0" y="108347"/>
                </a:moveTo>
                <a:lnTo>
                  <a:pt x="13543" y="108347"/>
                </a:lnTo>
                <a:lnTo>
                  <a:pt x="13543" y="325040"/>
                </a:lnTo>
                <a:lnTo>
                  <a:pt x="0" y="325040"/>
                </a:lnTo>
                <a:lnTo>
                  <a:pt x="0" y="108347"/>
                </a:lnTo>
                <a:close/>
                <a:moveTo>
                  <a:pt x="27087" y="108347"/>
                </a:moveTo>
                <a:lnTo>
                  <a:pt x="54173" y="108347"/>
                </a:lnTo>
                <a:lnTo>
                  <a:pt x="54173" y="325040"/>
                </a:lnTo>
                <a:lnTo>
                  <a:pt x="27087" y="325040"/>
                </a:lnTo>
                <a:lnTo>
                  <a:pt x="27087" y="108347"/>
                </a:lnTo>
                <a:close/>
                <a:moveTo>
                  <a:pt x="67717" y="108347"/>
                </a:moveTo>
                <a:lnTo>
                  <a:pt x="504032" y="108347"/>
                </a:lnTo>
                <a:lnTo>
                  <a:pt x="504032" y="0"/>
                </a:lnTo>
                <a:lnTo>
                  <a:pt x="720725" y="216694"/>
                </a:lnTo>
                <a:lnTo>
                  <a:pt x="504032" y="433387"/>
                </a:lnTo>
                <a:lnTo>
                  <a:pt x="504032" y="325040"/>
                </a:lnTo>
                <a:lnTo>
                  <a:pt x="67717" y="325040"/>
                </a:lnTo>
                <a:lnTo>
                  <a:pt x="67717" y="108347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7" name="TextBox 30"/>
          <p:cNvSpPr/>
          <p:nvPr/>
        </p:nvSpPr>
        <p:spPr>
          <a:xfrm>
            <a:off x="6226200" y="5334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ell divides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8" name="Oval 32"/>
          <p:cNvSpPr/>
          <p:nvPr/>
        </p:nvSpPr>
        <p:spPr>
          <a:xfrm>
            <a:off x="1908000" y="2781360"/>
            <a:ext cx="287640" cy="28728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49" name="Oval 33"/>
          <p:cNvSpPr/>
          <p:nvPr/>
        </p:nvSpPr>
        <p:spPr>
          <a:xfrm>
            <a:off x="5867280" y="4508640"/>
            <a:ext cx="289080" cy="28872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0" name="Oval 34"/>
          <p:cNvSpPr/>
          <p:nvPr/>
        </p:nvSpPr>
        <p:spPr>
          <a:xfrm>
            <a:off x="7885080" y="4508640"/>
            <a:ext cx="287280" cy="288720"/>
          </a:xfrm>
          <a:prstGeom prst="ellipse">
            <a:avLst/>
          </a:prstGeom>
          <a:solidFill>
            <a:srgbClr val="8608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1" name="Oval 38"/>
          <p:cNvSpPr/>
          <p:nvPr/>
        </p:nvSpPr>
        <p:spPr>
          <a:xfrm>
            <a:off x="7236000" y="2708280"/>
            <a:ext cx="360360" cy="3603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2" name="Arc 39"/>
          <p:cNvSpPr/>
          <p:nvPr/>
        </p:nvSpPr>
        <p:spPr>
          <a:xfrm>
            <a:off x="7308720" y="2708280"/>
            <a:ext cx="287640" cy="289080"/>
          </a:xfrm>
          <a:custGeom>
            <a:avLst/>
            <a:gdLst/>
            <a:ahLst/>
            <a:rect l="l" t="t" r="r" b="b"/>
            <a:pathLst>
              <a:path stroke="0" w="287338" h="288925">
                <a:moveTo>
                  <a:pt x="143669" y="0"/>
                </a:moveTo>
                <a:cubicBezTo>
                  <a:pt x="223015" y="0"/>
                  <a:pt x="287338" y="64678"/>
                  <a:pt x="287338" y="144463"/>
                </a:cubicBezTo>
                <a:lnTo>
                  <a:pt x="143669" y="144463"/>
                </a:lnTo>
                <a:lnTo>
                  <a:pt x="143669" y="0"/>
                </a:lnTo>
                <a:close/>
              </a:path>
              <a:path fill="none" w="287338" h="288925">
                <a:moveTo>
                  <a:pt x="143669" y="0"/>
                </a:moveTo>
                <a:cubicBezTo>
                  <a:pt x="223015" y="0"/>
                  <a:pt x="287338" y="64678"/>
                  <a:pt x="287338" y="144463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3" name="Oval 40"/>
          <p:cNvSpPr/>
          <p:nvPr/>
        </p:nvSpPr>
        <p:spPr>
          <a:xfrm>
            <a:off x="6227640" y="4508640"/>
            <a:ext cx="360360" cy="3603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4" name="Arc 41"/>
          <p:cNvSpPr/>
          <p:nvPr/>
        </p:nvSpPr>
        <p:spPr>
          <a:xfrm>
            <a:off x="6300720" y="4508640"/>
            <a:ext cx="287280" cy="288720"/>
          </a:xfrm>
          <a:custGeom>
            <a:avLst/>
            <a:gdLst/>
            <a:ahLst/>
            <a:rect l="l" t="t" r="r" b="b"/>
            <a:pathLst>
              <a:path stroke="0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  <a:lnTo>
                  <a:pt x="143669" y="144463"/>
                </a:lnTo>
                <a:cubicBezTo>
                  <a:pt x="143669" y="96309"/>
                  <a:pt x="143668" y="48154"/>
                  <a:pt x="143668" y="0"/>
                </a:cubicBezTo>
                <a:close/>
              </a:path>
              <a:path fill="none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5" name="Oval 42"/>
          <p:cNvSpPr/>
          <p:nvPr/>
        </p:nvSpPr>
        <p:spPr>
          <a:xfrm>
            <a:off x="2268360" y="2781360"/>
            <a:ext cx="358920" cy="3585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6" name="Arc 43"/>
          <p:cNvSpPr/>
          <p:nvPr/>
        </p:nvSpPr>
        <p:spPr>
          <a:xfrm>
            <a:off x="2340000" y="2781360"/>
            <a:ext cx="287280" cy="287280"/>
          </a:xfrm>
          <a:custGeom>
            <a:avLst/>
            <a:gdLst/>
            <a:ahLst/>
            <a:rect l="l" t="t" r="r" b="b"/>
            <a:pathLst>
              <a:path stroke="0" w="287338" h="287338">
                <a:moveTo>
                  <a:pt x="143669" y="0"/>
                </a:moveTo>
                <a:cubicBezTo>
                  <a:pt x="223015" y="0"/>
                  <a:pt x="287338" y="64323"/>
                  <a:pt x="287338" y="143669"/>
                </a:cubicBezTo>
                <a:lnTo>
                  <a:pt x="143669" y="143669"/>
                </a:lnTo>
                <a:lnTo>
                  <a:pt x="143669" y="0"/>
                </a:lnTo>
                <a:close/>
              </a:path>
              <a:path fill="none" w="287338" h="287338">
                <a:moveTo>
                  <a:pt x="143669" y="0"/>
                </a:moveTo>
                <a:cubicBezTo>
                  <a:pt x="223015" y="0"/>
                  <a:pt x="287338" y="64323"/>
                  <a:pt x="287338" y="143669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7" name="Oval 46"/>
          <p:cNvSpPr/>
          <p:nvPr/>
        </p:nvSpPr>
        <p:spPr>
          <a:xfrm>
            <a:off x="8244000" y="4508640"/>
            <a:ext cx="360360" cy="3603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8" name="Arc 47"/>
          <p:cNvSpPr/>
          <p:nvPr/>
        </p:nvSpPr>
        <p:spPr>
          <a:xfrm>
            <a:off x="8317080" y="4508640"/>
            <a:ext cx="287280" cy="288720"/>
          </a:xfrm>
          <a:custGeom>
            <a:avLst/>
            <a:gdLst/>
            <a:ahLst/>
            <a:rect l="l" t="t" r="r" b="b"/>
            <a:pathLst>
              <a:path stroke="0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  <a:lnTo>
                  <a:pt x="143669" y="144463"/>
                </a:lnTo>
                <a:cubicBezTo>
                  <a:pt x="143669" y="96309"/>
                  <a:pt x="143668" y="48154"/>
                  <a:pt x="143668" y="0"/>
                </a:cubicBezTo>
                <a:close/>
              </a:path>
              <a:path fill="none" w="287337" h="288925">
                <a:moveTo>
                  <a:pt x="143668" y="0"/>
                </a:moveTo>
                <a:cubicBezTo>
                  <a:pt x="223014" y="0"/>
                  <a:pt x="287337" y="64678"/>
                  <a:pt x="287337" y="144463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59" name="Straight Connector 49"/>
          <p:cNvSpPr/>
          <p:nvPr/>
        </p:nvSpPr>
        <p:spPr>
          <a:xfrm>
            <a:off x="826920" y="436572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0" name="Straight Connector 50"/>
          <p:cNvSpPr/>
          <p:nvPr/>
        </p:nvSpPr>
        <p:spPr>
          <a:xfrm>
            <a:off x="826920" y="450864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1" name="Straight Connector 51"/>
          <p:cNvSpPr/>
          <p:nvPr/>
        </p:nvSpPr>
        <p:spPr>
          <a:xfrm>
            <a:off x="826920" y="465300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2" name="Straight Connector 52"/>
          <p:cNvSpPr/>
          <p:nvPr/>
        </p:nvSpPr>
        <p:spPr>
          <a:xfrm>
            <a:off x="826920" y="4797360"/>
            <a:ext cx="287640" cy="0"/>
          </a:xfrm>
          <a:prstGeom prst="line">
            <a:avLst/>
          </a:prstGeom>
          <a:ln w="507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3" name="Straight Connector 27"/>
          <p:cNvSpPr/>
          <p:nvPr/>
        </p:nvSpPr>
        <p:spPr>
          <a:xfrm>
            <a:off x="826920" y="494352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4" name="Straight Connector 28"/>
          <p:cNvSpPr/>
          <p:nvPr/>
        </p:nvSpPr>
        <p:spPr>
          <a:xfrm>
            <a:off x="826920" y="508644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5" name="Straight Connector 29"/>
          <p:cNvSpPr/>
          <p:nvPr/>
        </p:nvSpPr>
        <p:spPr>
          <a:xfrm>
            <a:off x="826920" y="523080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6" name="Straight Connector 30"/>
          <p:cNvSpPr/>
          <p:nvPr/>
        </p:nvSpPr>
        <p:spPr>
          <a:xfrm>
            <a:off x="826920" y="5375160"/>
            <a:ext cx="287640" cy="0"/>
          </a:xfrm>
          <a:prstGeom prst="line">
            <a:avLst/>
          </a:prstGeom>
          <a:ln w="507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7" name="TextBox 31"/>
          <p:cNvSpPr/>
          <p:nvPr/>
        </p:nvSpPr>
        <p:spPr>
          <a:xfrm>
            <a:off x="250920" y="5516640"/>
            <a:ext cx="266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dd piece of DNA from yeast gene library to plasmid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8" name="Striped Right Arrow 32"/>
          <p:cNvSpPr/>
          <p:nvPr/>
        </p:nvSpPr>
        <p:spPr>
          <a:xfrm>
            <a:off x="1187280" y="4581360"/>
            <a:ext cx="1081080" cy="432000"/>
          </a:xfrm>
          <a:custGeom>
            <a:avLst/>
            <a:gdLst/>
            <a:ahLst/>
            <a:rect l="l" t="t" r="r" b="b"/>
            <a:pathLst>
              <a:path w="1081088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865188" y="107950"/>
                </a:lnTo>
                <a:lnTo>
                  <a:pt x="865188" y="0"/>
                </a:lnTo>
                <a:lnTo>
                  <a:pt x="1081088" y="215900"/>
                </a:lnTo>
                <a:lnTo>
                  <a:pt x="865188" y="431800"/>
                </a:lnTo>
                <a:lnTo>
                  <a:pt x="865188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69" name="Striped Right Arrow 33"/>
          <p:cNvSpPr/>
          <p:nvPr/>
        </p:nvSpPr>
        <p:spPr>
          <a:xfrm rot="16200000">
            <a:off x="2016000" y="3752640"/>
            <a:ext cx="1079640" cy="431640"/>
          </a:xfrm>
          <a:custGeom>
            <a:avLst/>
            <a:gdLst/>
            <a:ahLst/>
            <a:rect l="l" t="t" r="r" b="b"/>
            <a:pathLst>
              <a:path w="1079500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863600" y="107950"/>
                </a:lnTo>
                <a:lnTo>
                  <a:pt x="863600" y="0"/>
                </a:lnTo>
                <a:lnTo>
                  <a:pt x="1079500" y="215900"/>
                </a:lnTo>
                <a:lnTo>
                  <a:pt x="863600" y="431800"/>
                </a:lnTo>
                <a:lnTo>
                  <a:pt x="863600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0" name="Oval 36"/>
          <p:cNvSpPr/>
          <p:nvPr/>
        </p:nvSpPr>
        <p:spPr>
          <a:xfrm>
            <a:off x="2340000" y="4653000"/>
            <a:ext cx="358920" cy="358560"/>
          </a:xfrm>
          <a:prstGeom prst="ellipse">
            <a:avLst/>
          </a:prstGeom>
          <a:noFill/>
          <a:ln w="9360">
            <a:solidFill>
              <a:srgbClr val="0c1c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1" name="Arc 37"/>
          <p:cNvSpPr/>
          <p:nvPr/>
        </p:nvSpPr>
        <p:spPr>
          <a:xfrm>
            <a:off x="2411280" y="4653000"/>
            <a:ext cx="287640" cy="287280"/>
          </a:xfrm>
          <a:custGeom>
            <a:avLst/>
            <a:gdLst/>
            <a:ahLst/>
            <a:rect l="l" t="t" r="r" b="b"/>
            <a:pathLst>
              <a:path stroke="0" w="287337" h="287337">
                <a:moveTo>
                  <a:pt x="143668" y="0"/>
                </a:moveTo>
                <a:cubicBezTo>
                  <a:pt x="223014" y="0"/>
                  <a:pt x="287337" y="64323"/>
                  <a:pt x="287337" y="143669"/>
                </a:cubicBezTo>
                <a:lnTo>
                  <a:pt x="143669" y="143669"/>
                </a:lnTo>
                <a:cubicBezTo>
                  <a:pt x="143669" y="95779"/>
                  <a:pt x="143668" y="47890"/>
                  <a:pt x="143668" y="0"/>
                </a:cubicBezTo>
                <a:close/>
              </a:path>
              <a:path fill="none" w="287337" h="287337">
                <a:moveTo>
                  <a:pt x="143668" y="0"/>
                </a:moveTo>
                <a:cubicBezTo>
                  <a:pt x="223014" y="0"/>
                  <a:pt x="287337" y="64323"/>
                  <a:pt x="287337" y="143669"/>
                </a:cubicBezTo>
              </a:path>
            </a:pathLst>
          </a:custGeom>
          <a:noFill/>
          <a:ln w="5076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2" name="Striped Right Arrow 44"/>
          <p:cNvSpPr/>
          <p:nvPr/>
        </p:nvSpPr>
        <p:spPr>
          <a:xfrm>
            <a:off x="2916360" y="2708280"/>
            <a:ext cx="3168360" cy="431640"/>
          </a:xfrm>
          <a:custGeom>
            <a:avLst/>
            <a:gdLst/>
            <a:ahLst/>
            <a:rect l="l" t="t" r="r" b="b"/>
            <a:pathLst>
              <a:path w="3168650" h="431800">
                <a:moveTo>
                  <a:pt x="0" y="107950"/>
                </a:moveTo>
                <a:lnTo>
                  <a:pt x="13494" y="107950"/>
                </a:lnTo>
                <a:lnTo>
                  <a:pt x="13494" y="323850"/>
                </a:lnTo>
                <a:lnTo>
                  <a:pt x="0" y="323850"/>
                </a:lnTo>
                <a:lnTo>
                  <a:pt x="0" y="107950"/>
                </a:lnTo>
                <a:close/>
                <a:moveTo>
                  <a:pt x="26988" y="107950"/>
                </a:moveTo>
                <a:lnTo>
                  <a:pt x="53975" y="107950"/>
                </a:lnTo>
                <a:lnTo>
                  <a:pt x="53975" y="323850"/>
                </a:lnTo>
                <a:lnTo>
                  <a:pt x="26988" y="323850"/>
                </a:lnTo>
                <a:lnTo>
                  <a:pt x="26988" y="107950"/>
                </a:lnTo>
                <a:close/>
                <a:moveTo>
                  <a:pt x="67469" y="107950"/>
                </a:moveTo>
                <a:lnTo>
                  <a:pt x="2952750" y="107950"/>
                </a:lnTo>
                <a:lnTo>
                  <a:pt x="2952750" y="0"/>
                </a:lnTo>
                <a:lnTo>
                  <a:pt x="3168650" y="215900"/>
                </a:lnTo>
                <a:lnTo>
                  <a:pt x="2952750" y="431800"/>
                </a:lnTo>
                <a:lnTo>
                  <a:pt x="2952750" y="323850"/>
                </a:lnTo>
                <a:lnTo>
                  <a:pt x="67469" y="323850"/>
                </a:lnTo>
                <a:lnTo>
                  <a:pt x="67469" y="107950"/>
                </a:lnTo>
                <a:close/>
              </a:path>
            </a:pathLst>
          </a:custGeom>
          <a:solidFill>
            <a:srgbClr val="3d5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3" name="TextBox 45"/>
          <p:cNvSpPr/>
          <p:nvPr/>
        </p:nvSpPr>
        <p:spPr>
          <a:xfrm>
            <a:off x="2916360" y="350028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Insert DNA into mutant yeast cell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4" name="TextBox 27"/>
          <p:cNvSpPr/>
          <p:nvPr/>
        </p:nvSpPr>
        <p:spPr>
          <a:xfrm>
            <a:off x="1712880" y="21178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25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5" name="TextBox 28"/>
          <p:cNvSpPr/>
          <p:nvPr/>
        </p:nvSpPr>
        <p:spPr>
          <a:xfrm>
            <a:off x="6424560" y="211788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at 36</a:t>
            </a:r>
            <a:r>
              <a:rPr b="0" lang="en-GB" sz="2000" spc="-1" strike="noStrike">
                <a:solidFill>
                  <a:srgbClr val="180e63"/>
                </a:solidFill>
                <a:latin typeface="Symbol"/>
                <a:ea typeface="Symbol"/>
              </a:rPr>
              <a:t></a:t>
            </a:r>
            <a:r>
              <a:rPr b="0" lang="en-GB" sz="2000" spc="-1" strike="noStrike">
                <a:solidFill>
                  <a:srgbClr val="180e63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6" name="TextBox 27"/>
          <p:cNvSpPr/>
          <p:nvPr/>
        </p:nvSpPr>
        <p:spPr>
          <a:xfrm>
            <a:off x="250920" y="167652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dentifying a mutant cdc gene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Circular Arrow 4"/>
          <p:cNvSpPr/>
          <p:nvPr/>
        </p:nvSpPr>
        <p:spPr>
          <a:xfrm>
            <a:off x="2050920" y="134136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2417774" y="4320086"/>
                </a:moveTo>
                <a:cubicBezTo>
                  <a:pt x="1341307" y="4340635"/>
                  <a:pt x="425078" y="3567761"/>
                  <a:pt x="301773" y="2535161"/>
                </a:cubicBezTo>
                <a:cubicBezTo>
                  <a:pt x="177058" y="1490753"/>
                  <a:pt x="904535" y="529128"/>
                  <a:pt x="1973008" y="326017"/>
                </a:cubicBezTo>
                <a:cubicBezTo>
                  <a:pt x="3020013" y="126987"/>
                  <a:pt x="4054031" y="721973"/>
                  <a:pt x="4370803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69440" y="1081128"/>
                  <a:pt x="2718011" y="731537"/>
                  <a:pt x="1995675" y="910497"/>
                </a:cubicBezTo>
                <a:cubicBezTo>
                  <a:pt x="1246052" y="1096217"/>
                  <a:pt x="764952" y="1791232"/>
                  <a:pt x="881235" y="2520459"/>
                </a:cubicBezTo>
                <a:cubicBezTo>
                  <a:pt x="995149" y="3234826"/>
                  <a:pt x="1647326" y="3758231"/>
                  <a:pt x="2405978" y="3744142"/>
                </a:cubicBezTo>
                <a:lnTo>
                  <a:pt x="2417774" y="4320086"/>
                </a:lnTo>
                <a:close/>
              </a:path>
            </a:pathLst>
          </a:custGeom>
          <a:solidFill>
            <a:srgbClr val="d4ecb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8" name="Circular Arrow 12"/>
          <p:cNvSpPr/>
          <p:nvPr/>
        </p:nvSpPr>
        <p:spPr>
          <a:xfrm>
            <a:off x="2050920" y="134136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679086" y="3478921"/>
                </a:moveTo>
                <a:cubicBezTo>
                  <a:pt x="184289" y="2812536"/>
                  <a:pt x="156764" y="1923247"/>
                  <a:pt x="609465" y="1229530"/>
                </a:cubicBezTo>
                <a:cubicBezTo>
                  <a:pt x="1040981" y="568276"/>
                  <a:pt x="1829462" y="207337"/>
                  <a:pt x="2632878" y="303283"/>
                </a:cubicBezTo>
                <a:cubicBezTo>
                  <a:pt x="3447277" y="400541"/>
                  <a:pt x="4127206" y="949222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538762" y="1234119"/>
                  <a:pt x="3036031" y="898667"/>
                  <a:pt x="2465622" y="866599"/>
                </a:cubicBezTo>
                <a:cubicBezTo>
                  <a:pt x="1900431" y="834825"/>
                  <a:pt x="1363936" y="1106315"/>
                  <a:pt x="1075334" y="1570148"/>
                </a:cubicBezTo>
                <a:cubicBezTo>
                  <a:pt x="767662" y="2064630"/>
                  <a:pt x="798211" y="2685970"/>
                  <a:pt x="1153056" y="3150915"/>
                </a:cubicBezTo>
                <a:lnTo>
                  <a:pt x="679086" y="3478921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79" name="Circular Arrow 15"/>
          <p:cNvSpPr/>
          <p:nvPr/>
        </p:nvSpPr>
        <p:spPr>
          <a:xfrm>
            <a:off x="2050920" y="1341360"/>
            <a:ext cx="4753080" cy="460872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1638572" y="418082"/>
                </a:moveTo>
                <a:cubicBezTo>
                  <a:pt x="2167027" y="225392"/>
                  <a:pt x="2753797" y="247588"/>
                  <a:pt x="3265015" y="479607"/>
                </a:cubicBezTo>
                <a:cubicBezTo>
                  <a:pt x="3795522" y="720381"/>
                  <a:pt x="4196788" y="1165316"/>
                  <a:pt x="4370804" y="1705737"/>
                </a:cubicBezTo>
                <a:lnTo>
                  <a:pt x="4646201" y="1693017"/>
                </a:lnTo>
                <a:lnTo>
                  <a:pt x="4174830" y="2221196"/>
                </a:lnTo>
                <a:lnTo>
                  <a:pt x="3495300" y="1746174"/>
                </a:lnTo>
                <a:lnTo>
                  <a:pt x="3765133" y="1733711"/>
                </a:lnTo>
                <a:cubicBezTo>
                  <a:pt x="3446034" y="1029472"/>
                  <a:pt x="2603300" y="686944"/>
                  <a:pt x="1848511" y="954703"/>
                </a:cubicBezTo>
                <a:lnTo>
                  <a:pt x="1638572" y="418082"/>
                </a:lnTo>
                <a:close/>
              </a:path>
            </a:pathLst>
          </a:custGeom>
          <a:solidFill>
            <a:srgbClr val="3d5d1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0" name="Pie 16"/>
          <p:cNvSpPr/>
          <p:nvPr/>
        </p:nvSpPr>
        <p:spPr>
          <a:xfrm rot="10800000">
            <a:off x="2771280" y="1557360"/>
            <a:ext cx="3961080" cy="4248000"/>
          </a:xfrm>
          <a:custGeom>
            <a:avLst/>
            <a:gdLst/>
            <a:ahLst/>
            <a:rect l="l" t="t" r="r" b="b"/>
            <a:pathLst>
              <a:path w="3960813" h="4248150">
                <a:moveTo>
                  <a:pt x="462" y="2078196"/>
                </a:moveTo>
                <a:cubicBezTo>
                  <a:pt x="23726" y="923250"/>
                  <a:pt x="903328" y="0"/>
                  <a:pt x="1980407" y="0"/>
                </a:cubicBezTo>
                <a:lnTo>
                  <a:pt x="1980407" y="2124075"/>
                </a:lnTo>
                <a:lnTo>
                  <a:pt x="462" y="2078196"/>
                </a:lnTo>
                <a:close/>
              </a:path>
            </a:pathLst>
          </a:cu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1" name="TextBox 17"/>
          <p:cNvSpPr/>
          <p:nvPr/>
        </p:nvSpPr>
        <p:spPr>
          <a:xfrm>
            <a:off x="4932360" y="4221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2" name="TextBox 18"/>
          <p:cNvSpPr/>
          <p:nvPr/>
        </p:nvSpPr>
        <p:spPr>
          <a:xfrm>
            <a:off x="2556000" y="2852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3" name="TextBox 19"/>
          <p:cNvSpPr/>
          <p:nvPr/>
        </p:nvSpPr>
        <p:spPr>
          <a:xfrm>
            <a:off x="4572000" y="1701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G2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4" name="TextBox 21"/>
          <p:cNvSpPr/>
          <p:nvPr/>
        </p:nvSpPr>
        <p:spPr>
          <a:xfrm>
            <a:off x="3274920" y="49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G1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5" name="Oval 22"/>
          <p:cNvSpPr/>
          <p:nvPr/>
        </p:nvSpPr>
        <p:spPr>
          <a:xfrm>
            <a:off x="971640" y="4149720"/>
            <a:ext cx="12952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6" name="TextBox 23"/>
          <p:cNvSpPr/>
          <p:nvPr/>
        </p:nvSpPr>
        <p:spPr>
          <a:xfrm>
            <a:off x="971640" y="429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7" name="Oval 24"/>
          <p:cNvSpPr/>
          <p:nvPr/>
        </p:nvSpPr>
        <p:spPr>
          <a:xfrm>
            <a:off x="1258920" y="1844640"/>
            <a:ext cx="1297080" cy="86508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8" name="TextBox 25"/>
          <p:cNvSpPr/>
          <p:nvPr/>
        </p:nvSpPr>
        <p:spPr>
          <a:xfrm>
            <a:off x="1258920" y="1989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89" name="Oval 26"/>
          <p:cNvSpPr/>
          <p:nvPr/>
        </p:nvSpPr>
        <p:spPr>
          <a:xfrm>
            <a:off x="6804000" y="2494080"/>
            <a:ext cx="12970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0" name="TextBox 27"/>
          <p:cNvSpPr/>
          <p:nvPr/>
        </p:nvSpPr>
        <p:spPr>
          <a:xfrm>
            <a:off x="6804000" y="2637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1" name="Oval 28"/>
          <p:cNvSpPr/>
          <p:nvPr/>
        </p:nvSpPr>
        <p:spPr>
          <a:xfrm>
            <a:off x="5508720" y="5589720"/>
            <a:ext cx="12952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2" name="TextBox 29"/>
          <p:cNvSpPr/>
          <p:nvPr/>
        </p:nvSpPr>
        <p:spPr>
          <a:xfrm>
            <a:off x="550872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3" name="Oval 30"/>
          <p:cNvSpPr/>
          <p:nvPr/>
        </p:nvSpPr>
        <p:spPr>
          <a:xfrm>
            <a:off x="2843280" y="5778360"/>
            <a:ext cx="1297080" cy="863640"/>
          </a:xfrm>
          <a:prstGeom prst="ellipse">
            <a:avLst/>
          </a:prstGeom>
          <a:noFill/>
          <a:ln w="25560">
            <a:solidFill>
              <a:srgbClr val="3d5d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394" name="TextBox 31"/>
          <p:cNvSpPr/>
          <p:nvPr/>
        </p:nvSpPr>
        <p:spPr>
          <a:xfrm>
            <a:off x="2843280" y="59230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Gen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ircular Arrow 4"/>
          <p:cNvSpPr/>
          <p:nvPr/>
        </p:nvSpPr>
        <p:spPr>
          <a:xfrm>
            <a:off x="1835280" y="1700280"/>
            <a:ext cx="4752720" cy="4608360"/>
          </a:xfrm>
          <a:custGeom>
            <a:avLst/>
            <a:gdLst/>
            <a:ahLst/>
            <a:rect l="l" t="t" r="r" b="b"/>
            <a:pathLst>
              <a:path w="4752975" h="4608512">
                <a:moveTo>
                  <a:pt x="2425889" y="4319916"/>
                </a:moveTo>
                <a:cubicBezTo>
                  <a:pt x="1346698" y="4344568"/>
                  <a:pt x="425884" y="3571157"/>
                  <a:pt x="301861" y="2535900"/>
                </a:cubicBezTo>
                <a:cubicBezTo>
                  <a:pt x="176417" y="1488783"/>
                  <a:pt x="907620" y="525107"/>
                  <a:pt x="1979581" y="324778"/>
                </a:cubicBezTo>
                <a:cubicBezTo>
                  <a:pt x="3030365" y="128407"/>
                  <a:pt x="4064849" y="730719"/>
                  <a:pt x="4375209" y="1719596"/>
                </a:cubicBezTo>
                <a:lnTo>
                  <a:pt x="4646814" y="1719596"/>
                </a:lnTo>
                <a:lnTo>
                  <a:pt x="4176911" y="2304256"/>
                </a:lnTo>
                <a:lnTo>
                  <a:pt x="3494686" y="1719596"/>
                </a:lnTo>
                <a:lnTo>
                  <a:pt x="3758642" y="1719596"/>
                </a:lnTo>
                <a:cubicBezTo>
                  <a:pt x="3456285" y="1071461"/>
                  <a:pt x="2703406" y="729415"/>
                  <a:pt x="1984127" y="913405"/>
                </a:cubicBezTo>
                <a:cubicBezTo>
                  <a:pt x="1236890" y="1104546"/>
                  <a:pt x="761656" y="1801905"/>
                  <a:pt x="882724" y="2529604"/>
                </a:cubicBezTo>
                <a:cubicBezTo>
                  <a:pt x="1001222" y="3241857"/>
                  <a:pt x="1654675" y="3760851"/>
                  <a:pt x="2411774" y="3744025"/>
                </a:cubicBezTo>
                <a:lnTo>
                  <a:pt x="2425889" y="4319916"/>
                </a:lnTo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50920" y="16765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The cell cycl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3" name="Pie 13"/>
          <p:cNvSpPr/>
          <p:nvPr/>
        </p:nvSpPr>
        <p:spPr>
          <a:xfrm rot="10800000">
            <a:off x="2050560" y="1773000"/>
            <a:ext cx="4753080" cy="4653000"/>
          </a:xfrm>
          <a:custGeom>
            <a:avLst/>
            <a:gdLst/>
            <a:ahLst/>
            <a:rect l="l" t="t" r="r" b="b"/>
            <a:pathLst>
              <a:path w="4752975" h="4652962">
                <a:moveTo>
                  <a:pt x="0" y="2326481"/>
                </a:moveTo>
                <a:cubicBezTo>
                  <a:pt x="0" y="1041601"/>
                  <a:pt x="1063990" y="0"/>
                  <a:pt x="2376488" y="0"/>
                </a:cubicBezTo>
                <a:lnTo>
                  <a:pt x="2376488" y="2326481"/>
                </a:lnTo>
                <a:lnTo>
                  <a:pt x="0" y="2326481"/>
                </a:lnTo>
                <a:close/>
              </a:path>
            </a:pathLst>
          </a:custGeom>
          <a:solidFill>
            <a:srgbClr val="72bfc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250920" y="29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interphas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4932360" y="4724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43"/>
          <p:cNvSpPr/>
          <p:nvPr/>
        </p:nvSpPr>
        <p:spPr>
          <a:xfrm>
            <a:off x="356400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7" name="Rounded Rectangle 44"/>
          <p:cNvSpPr/>
          <p:nvPr/>
        </p:nvSpPr>
        <p:spPr>
          <a:xfrm>
            <a:off x="385128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8" name="Rounded Rectangle 41"/>
          <p:cNvSpPr/>
          <p:nvPr/>
        </p:nvSpPr>
        <p:spPr>
          <a:xfrm>
            <a:off x="3851280" y="3357720"/>
            <a:ext cx="181080" cy="2000160"/>
          </a:xfrm>
          <a:custGeom>
            <a:avLst/>
            <a:gdLst>
              <a:gd name="textAreaLeft" fmla="*/ 26280 w 181080"/>
              <a:gd name="textAreaRight" fmla="*/ 154800 w 1810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38157">
                <a:moveTo>
                  <a:pt x="10800" y="0"/>
                </a:moveTo>
                <a:arcTo wR="10800" hR="10800" stAng="16200000" swAng="-5400000"/>
                <a:lnTo>
                  <a:pt x="0" y="227357"/>
                </a:lnTo>
                <a:arcTo wR="10800" hR="10800" stAng="10800000" swAng="-5400000"/>
                <a:lnTo>
                  <a:pt x="10800" y="2381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99" name="Rounded Rectangle 32"/>
          <p:cNvSpPr/>
          <p:nvPr/>
        </p:nvSpPr>
        <p:spPr>
          <a:xfrm>
            <a:off x="3564000" y="3357720"/>
            <a:ext cx="179280" cy="200016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40543">
                <a:moveTo>
                  <a:pt x="10800" y="0"/>
                </a:moveTo>
                <a:arcTo wR="10800" hR="10800" stAng="16200000" swAng="-5400000"/>
                <a:lnTo>
                  <a:pt x="0" y="229743"/>
                </a:lnTo>
                <a:arcTo wR="10800" hR="10800" stAng="10800000" swAng="-5400000"/>
                <a:lnTo>
                  <a:pt x="10800" y="24054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0" name="Straight Connector 11"/>
          <p:cNvSpPr/>
          <p:nvPr/>
        </p:nvSpPr>
        <p:spPr>
          <a:xfrm flipV="1">
            <a:off x="4140360" y="3284280"/>
            <a:ext cx="1008000" cy="4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1" name="Straight Connector 12"/>
          <p:cNvSpPr/>
          <p:nvPr/>
        </p:nvSpPr>
        <p:spPr>
          <a:xfrm>
            <a:off x="3635280" y="4221000"/>
            <a:ext cx="1596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5219640" y="3860640"/>
            <a:ext cx="20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Sister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3" name="Straight Connector 17"/>
          <p:cNvSpPr/>
          <p:nvPr/>
        </p:nvSpPr>
        <p:spPr>
          <a:xfrm flipV="1">
            <a:off x="3924360" y="4221000"/>
            <a:ext cx="12952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5148360" y="30700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entromer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5" name="Oval 30"/>
          <p:cNvSpPr/>
          <p:nvPr/>
        </p:nvSpPr>
        <p:spPr>
          <a:xfrm>
            <a:off x="3492360" y="2997360"/>
            <a:ext cx="64800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6" name="Left Brace 68"/>
          <p:cNvSpPr/>
          <p:nvPr/>
        </p:nvSpPr>
        <p:spPr>
          <a:xfrm>
            <a:off x="2916360" y="2781360"/>
            <a:ext cx="360360" cy="25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56160 h 2592360"/>
              <a:gd name="textAreaBottom" fmla="*/ 253620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1"/>
                  <a:pt x="10800" y="1501"/>
                </a:cubicBezTo>
                <a:lnTo>
                  <a:pt x="10800" y="9299"/>
                </a:lnTo>
                <a:cubicBezTo>
                  <a:pt x="10800" y="10050"/>
                  <a:pt x="5400" y="10800"/>
                  <a:pt x="0" y="10800"/>
                </a:cubicBezTo>
                <a:cubicBezTo>
                  <a:pt x="5400" y="10800"/>
                  <a:pt x="10800" y="11551"/>
                  <a:pt x="10800" y="12301"/>
                </a:cubicBezTo>
                <a:lnTo>
                  <a:pt x="10800" y="20099"/>
                </a:lnTo>
                <a:cubicBezTo>
                  <a:pt x="10800" y="2085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7" name="TextBox 69"/>
          <p:cNvSpPr/>
          <p:nvPr/>
        </p:nvSpPr>
        <p:spPr>
          <a:xfrm>
            <a:off x="395280" y="328464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hromosome consisting of a pair of sister 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250920" y="16765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ounded Rectangle 43"/>
          <p:cNvSpPr/>
          <p:nvPr/>
        </p:nvSpPr>
        <p:spPr>
          <a:xfrm>
            <a:off x="1405080" y="2492280"/>
            <a:ext cx="214200" cy="938160"/>
          </a:xfrm>
          <a:custGeom>
            <a:avLst/>
            <a:gdLst>
              <a:gd name="textAreaLeft" fmla="*/ 31320 w 214200"/>
              <a:gd name="textAreaRight" fmla="*/ 182880 w 214200"/>
              <a:gd name="textAreaTop" fmla="*/ 31320 h 938160"/>
              <a:gd name="textAreaBottom" fmla="*/ 906840 h 938160"/>
            </a:gdLst>
            <a:ahLst/>
            <a:rect l="textAreaLeft" t="textAreaTop" r="textAreaRight" b="textAreaBottom"/>
            <a:pathLst>
              <a:path w="21600" h="94482">
                <a:moveTo>
                  <a:pt x="10800" y="0"/>
                </a:moveTo>
                <a:arcTo wR="10800" hR="10800" stAng="16200000" swAng="-5400000"/>
                <a:lnTo>
                  <a:pt x="0" y="83682"/>
                </a:lnTo>
                <a:arcTo wR="10800" hR="10800" stAng="10800000" swAng="-5400000"/>
                <a:lnTo>
                  <a:pt x="10800" y="9448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0" name="Rounded Rectangle 44"/>
          <p:cNvSpPr/>
          <p:nvPr/>
        </p:nvSpPr>
        <p:spPr>
          <a:xfrm>
            <a:off x="1692360" y="2492280"/>
            <a:ext cx="215640" cy="93816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938160"/>
              <a:gd name="textAreaBottom" fmla="*/ 906840 h 938160"/>
            </a:gdLst>
            <a:ahLst/>
            <a:rect l="textAreaLeft" t="textAreaTop" r="textAreaRight" b="textAreaBottom"/>
            <a:pathLst>
              <a:path w="21600" h="93852">
                <a:moveTo>
                  <a:pt x="10800" y="0"/>
                </a:moveTo>
                <a:arcTo wR="10800" hR="10800" stAng="16200000" swAng="-5400000"/>
                <a:lnTo>
                  <a:pt x="0" y="83052"/>
                </a:lnTo>
                <a:arcTo wR="10800" hR="10800" stAng="10800000" swAng="-5400000"/>
                <a:lnTo>
                  <a:pt x="10800" y="9385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1" name="Rounded Rectangle 41"/>
          <p:cNvSpPr/>
          <p:nvPr/>
        </p:nvSpPr>
        <p:spPr>
          <a:xfrm>
            <a:off x="1692360" y="3571920"/>
            <a:ext cx="180720" cy="2001960"/>
          </a:xfrm>
          <a:custGeom>
            <a:avLst/>
            <a:gdLst>
              <a:gd name="textAreaLeft" fmla="*/ 26280 w 180720"/>
              <a:gd name="textAreaRight" fmla="*/ 154440 w 180720"/>
              <a:gd name="textAreaTop" fmla="*/ 26280 h 2001960"/>
              <a:gd name="textAreaBottom" fmla="*/ 1975680 h 2001960"/>
            </a:gdLst>
            <a:ahLst/>
            <a:rect l="textAreaLeft" t="textAreaTop" r="textAreaRight" b="textAreaBottom"/>
            <a:pathLst>
              <a:path w="21600" h="238845">
                <a:moveTo>
                  <a:pt x="10800" y="0"/>
                </a:moveTo>
                <a:arcTo wR="10800" hR="10800" stAng="16200000" swAng="-5400000"/>
                <a:lnTo>
                  <a:pt x="0" y="228045"/>
                </a:lnTo>
                <a:arcTo wR="10800" hR="10800" stAng="10800000" swAng="-5400000"/>
                <a:lnTo>
                  <a:pt x="10800" y="23884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2" name="Rounded Rectangle 32"/>
          <p:cNvSpPr/>
          <p:nvPr/>
        </p:nvSpPr>
        <p:spPr>
          <a:xfrm>
            <a:off x="1405080" y="3571920"/>
            <a:ext cx="179280" cy="200196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2001960"/>
              <a:gd name="textAreaBottom" fmla="*/ 1975680 h 2001960"/>
            </a:gdLst>
            <a:ahLst/>
            <a:rect l="textAreaLeft" t="textAreaTop" r="textAreaRight" b="textAreaBottom"/>
            <a:pathLst>
              <a:path w="21600" h="240760">
                <a:moveTo>
                  <a:pt x="10800" y="0"/>
                </a:moveTo>
                <a:arcTo wR="10800" hR="10800" stAng="16200000" swAng="-5400000"/>
                <a:lnTo>
                  <a:pt x="0" y="229960"/>
                </a:lnTo>
                <a:arcTo wR="10800" hR="10800" stAng="10800000" swAng="-5400000"/>
                <a:lnTo>
                  <a:pt x="10800" y="24076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3" name="Straight Connector 11"/>
          <p:cNvSpPr/>
          <p:nvPr/>
        </p:nvSpPr>
        <p:spPr>
          <a:xfrm flipV="1">
            <a:off x="1979640" y="3499920"/>
            <a:ext cx="1009800" cy="4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4" name="Straight Connector 12"/>
          <p:cNvSpPr/>
          <p:nvPr/>
        </p:nvSpPr>
        <p:spPr>
          <a:xfrm flipV="1">
            <a:off x="1476360" y="2708280"/>
            <a:ext cx="130824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5" name="TextBox 14"/>
          <p:cNvSpPr/>
          <p:nvPr/>
        </p:nvSpPr>
        <p:spPr>
          <a:xfrm>
            <a:off x="2989440" y="2347920"/>
            <a:ext cx="202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Sister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6" name="Straight Connector 17"/>
          <p:cNvSpPr/>
          <p:nvPr/>
        </p:nvSpPr>
        <p:spPr>
          <a:xfrm flipV="1">
            <a:off x="1836720" y="2708280"/>
            <a:ext cx="1008000" cy="28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298944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Centromere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443640" y="2890800"/>
            <a:ext cx="254160" cy="3357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19" name="Isosceles Triangle 16"/>
          <p:cNvSpPr/>
          <p:nvPr/>
        </p:nvSpPr>
        <p:spPr>
          <a:xfrm>
            <a:off x="6443640" y="1895400"/>
            <a:ext cx="254160" cy="100008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6802560" y="2890800"/>
            <a:ext cx="253800" cy="33577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1" name="Isosceles Triangle 20"/>
          <p:cNvSpPr/>
          <p:nvPr/>
        </p:nvSpPr>
        <p:spPr>
          <a:xfrm>
            <a:off x="6802560" y="1895400"/>
            <a:ext cx="253800" cy="100008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1332000" y="3213000"/>
            <a:ext cx="647640" cy="62892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250920" y="16765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itosi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ounded Rectangle 43"/>
          <p:cNvSpPr/>
          <p:nvPr/>
        </p:nvSpPr>
        <p:spPr>
          <a:xfrm>
            <a:off x="234000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5" name="Rounded Rectangle 44"/>
          <p:cNvSpPr/>
          <p:nvPr/>
        </p:nvSpPr>
        <p:spPr>
          <a:xfrm>
            <a:off x="2627280" y="2781360"/>
            <a:ext cx="216000" cy="43344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433440"/>
              <a:gd name="textAreaBottom" fmla="*/ 401760 h 433440"/>
            </a:gdLst>
            <a:ahLst/>
            <a:rect l="textAreaLeft" t="textAreaTop" r="textAreaRight" b="textAreaBottom"/>
            <a:pathLst>
              <a:path w="21600" h="43308">
                <a:moveTo>
                  <a:pt x="10800" y="0"/>
                </a:moveTo>
                <a:arcTo wR="10800" hR="10800" stAng="16200000" swAng="-5400000"/>
                <a:lnTo>
                  <a:pt x="0" y="32508"/>
                </a:lnTo>
                <a:arcTo wR="10800" hR="10800" stAng="10800000" swAng="-5400000"/>
                <a:lnTo>
                  <a:pt x="10800" y="433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6" name="Rounded Rectangle 41"/>
          <p:cNvSpPr/>
          <p:nvPr/>
        </p:nvSpPr>
        <p:spPr>
          <a:xfrm>
            <a:off x="2627280" y="3357720"/>
            <a:ext cx="181080" cy="2000160"/>
          </a:xfrm>
          <a:custGeom>
            <a:avLst/>
            <a:gdLst>
              <a:gd name="textAreaLeft" fmla="*/ 26280 w 181080"/>
              <a:gd name="textAreaRight" fmla="*/ 154800 w 1810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38157">
                <a:moveTo>
                  <a:pt x="10800" y="0"/>
                </a:moveTo>
                <a:arcTo wR="10800" hR="10800" stAng="16200000" swAng="-5400000"/>
                <a:lnTo>
                  <a:pt x="0" y="227357"/>
                </a:lnTo>
                <a:arcTo wR="10800" hR="10800" stAng="10800000" swAng="-5400000"/>
                <a:lnTo>
                  <a:pt x="10800" y="23815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7" name="Rounded Rectangle 32"/>
          <p:cNvSpPr/>
          <p:nvPr/>
        </p:nvSpPr>
        <p:spPr>
          <a:xfrm>
            <a:off x="2340000" y="3357720"/>
            <a:ext cx="179280" cy="2000160"/>
          </a:xfrm>
          <a:custGeom>
            <a:avLst/>
            <a:gdLst>
              <a:gd name="textAreaLeft" fmla="*/ 26280 w 179280"/>
              <a:gd name="textAreaRight" fmla="*/ 153000 w 179280"/>
              <a:gd name="textAreaTop" fmla="*/ 26280 h 2000160"/>
              <a:gd name="textAreaBottom" fmla="*/ 1973880 h 2000160"/>
            </a:gdLst>
            <a:ahLst/>
            <a:rect l="textAreaLeft" t="textAreaTop" r="textAreaRight" b="textAreaBottom"/>
            <a:pathLst>
              <a:path w="21600" h="240543">
                <a:moveTo>
                  <a:pt x="10800" y="0"/>
                </a:moveTo>
                <a:arcTo wR="10800" hR="10800" stAng="16200000" swAng="-5400000"/>
                <a:lnTo>
                  <a:pt x="0" y="229743"/>
                </a:lnTo>
                <a:arcTo wR="10800" hR="10800" stAng="10800000" swAng="-5400000"/>
                <a:lnTo>
                  <a:pt x="10800" y="24054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2268360" y="2997360"/>
            <a:ext cx="64800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29" name="Rounded Rectangle 46"/>
          <p:cNvSpPr/>
          <p:nvPr/>
        </p:nvSpPr>
        <p:spPr>
          <a:xfrm>
            <a:off x="3346560" y="2781360"/>
            <a:ext cx="223560" cy="423720"/>
          </a:xfrm>
          <a:custGeom>
            <a:avLst/>
            <a:gdLst>
              <a:gd name="textAreaLeft" fmla="*/ 32760 w 223560"/>
              <a:gd name="textAreaRight" fmla="*/ 190800 w 223560"/>
              <a:gd name="textAreaTop" fmla="*/ 32760 h 423720"/>
              <a:gd name="textAreaBottom" fmla="*/ 390960 h 423720"/>
            </a:gdLst>
            <a:ahLst/>
            <a:rect l="textAreaLeft" t="textAreaTop" r="textAreaRight" b="textAreaBottom"/>
            <a:pathLst>
              <a:path w="21600" h="40908">
                <a:moveTo>
                  <a:pt x="10800" y="0"/>
                </a:moveTo>
                <a:arcTo wR="10800" hR="10800" stAng="16200000" swAng="-5400000"/>
                <a:lnTo>
                  <a:pt x="0" y="30108"/>
                </a:lnTo>
                <a:arcTo wR="10800" hR="10800" stAng="10800000" swAng="-5400000"/>
                <a:lnTo>
                  <a:pt x="10800" y="409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0" name="Rounded Rectangle 47"/>
          <p:cNvSpPr/>
          <p:nvPr/>
        </p:nvSpPr>
        <p:spPr>
          <a:xfrm>
            <a:off x="3706920" y="2781360"/>
            <a:ext cx="215640" cy="42372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423720"/>
              <a:gd name="textAreaBottom" fmla="*/ 392400 h 423720"/>
            </a:gdLst>
            <a:ahLst/>
            <a:rect l="textAreaLeft" t="textAreaTop" r="textAreaRight" b="textAreaBottom"/>
            <a:pathLst>
              <a:path w="21600" h="42408">
                <a:moveTo>
                  <a:pt x="10800" y="0"/>
                </a:moveTo>
                <a:arcTo wR="10800" hR="10800" stAng="16200000" swAng="-5400000"/>
                <a:lnTo>
                  <a:pt x="0" y="31608"/>
                </a:lnTo>
                <a:arcTo wR="10800" hR="10800" stAng="10800000" swAng="-5400000"/>
                <a:lnTo>
                  <a:pt x="10800" y="4240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1" name="Rounded Rectangle 48"/>
          <p:cNvSpPr/>
          <p:nvPr/>
        </p:nvSpPr>
        <p:spPr>
          <a:xfrm>
            <a:off x="3708360" y="3357720"/>
            <a:ext cx="187200" cy="197784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977840"/>
              <a:gd name="textAreaBottom" fmla="*/ 1950480 h 1977840"/>
            </a:gdLst>
            <a:ahLst/>
            <a:rect l="textAreaLeft" t="textAreaTop" r="textAreaRight" b="textAreaBottom"/>
            <a:pathLst>
              <a:path w="21600" h="227816">
                <a:moveTo>
                  <a:pt x="10800" y="0"/>
                </a:moveTo>
                <a:arcTo wR="10800" hR="10800" stAng="16200000" swAng="-5400000"/>
                <a:lnTo>
                  <a:pt x="0" y="217016"/>
                </a:lnTo>
                <a:arcTo wR="10800" hR="10800" stAng="10800000" swAng="-5400000"/>
                <a:lnTo>
                  <a:pt x="10800" y="2278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2" name="Rounded Rectangle 49"/>
          <p:cNvSpPr/>
          <p:nvPr/>
        </p:nvSpPr>
        <p:spPr>
          <a:xfrm>
            <a:off x="3419640" y="3357720"/>
            <a:ext cx="187200" cy="197784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977840"/>
              <a:gd name="textAreaBottom" fmla="*/ 1950480 h 1977840"/>
            </a:gdLst>
            <a:ahLst/>
            <a:rect l="textAreaLeft" t="textAreaTop" r="textAreaRight" b="textAreaBottom"/>
            <a:pathLst>
              <a:path w="21600" h="227816">
                <a:moveTo>
                  <a:pt x="10800" y="0"/>
                </a:moveTo>
                <a:arcTo wR="10800" hR="10800" stAng="16200000" swAng="-5400000"/>
                <a:lnTo>
                  <a:pt x="0" y="217016"/>
                </a:lnTo>
                <a:arcTo wR="10800" hR="10800" stAng="10800000" swAng="-5400000"/>
                <a:lnTo>
                  <a:pt x="10800" y="2278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3274920" y="2997360"/>
            <a:ext cx="673200" cy="622080"/>
          </a:xfrm>
          <a:prstGeom prst="ellipse">
            <a:avLst/>
          </a:prstGeom>
          <a:solidFill>
            <a:srgbClr val="badd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4" name="Rounded Rectangle 51"/>
          <p:cNvSpPr/>
          <p:nvPr/>
        </p:nvSpPr>
        <p:spPr>
          <a:xfrm>
            <a:off x="5435640" y="3284640"/>
            <a:ext cx="223920" cy="4968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496800"/>
              <a:gd name="textAreaBottom" fmla="*/ 464040 h 496800"/>
            </a:gdLst>
            <a:ahLst/>
            <a:rect l="textAreaLeft" t="textAreaTop" r="textAreaRight" b="textAreaBottom"/>
            <a:pathLst>
              <a:path w="21600" h="47881">
                <a:moveTo>
                  <a:pt x="10800" y="0"/>
                </a:moveTo>
                <a:arcTo wR="10800" hR="10800" stAng="16200000" swAng="-5400000"/>
                <a:lnTo>
                  <a:pt x="0" y="37081"/>
                </a:lnTo>
                <a:arcTo wR="10800" hR="10800" stAng="10800000" swAng="-5400000"/>
                <a:lnTo>
                  <a:pt x="10800" y="478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5" name="Rounded Rectangle 52"/>
          <p:cNvSpPr/>
          <p:nvPr/>
        </p:nvSpPr>
        <p:spPr>
          <a:xfrm>
            <a:off x="5724360" y="3284640"/>
            <a:ext cx="217800" cy="496800"/>
          </a:xfrm>
          <a:custGeom>
            <a:avLst/>
            <a:gdLst>
              <a:gd name="textAreaLeft" fmla="*/ 31680 w 217800"/>
              <a:gd name="textAreaRight" fmla="*/ 186120 w 217800"/>
              <a:gd name="textAreaTop" fmla="*/ 31680 h 496800"/>
              <a:gd name="textAreaBottom" fmla="*/ 465120 h 496800"/>
            </a:gdLst>
            <a:ahLst/>
            <a:rect l="textAreaLeft" t="textAreaTop" r="textAreaRight" b="textAreaBottom"/>
            <a:pathLst>
              <a:path w="21600" h="49224">
                <a:moveTo>
                  <a:pt x="10800" y="0"/>
                </a:moveTo>
                <a:arcTo wR="10800" hR="10800" stAng="16200000" swAng="-5400000"/>
                <a:lnTo>
                  <a:pt x="0" y="38424"/>
                </a:lnTo>
                <a:arcTo wR="10800" hR="10800" stAng="10800000" swAng="-5400000"/>
                <a:lnTo>
                  <a:pt x="10800" y="492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6" name="Rounded Rectangle 53"/>
          <p:cNvSpPr/>
          <p:nvPr/>
        </p:nvSpPr>
        <p:spPr>
          <a:xfrm>
            <a:off x="5724360" y="3933720"/>
            <a:ext cx="216000" cy="1008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1008000"/>
              <a:gd name="textAreaBottom" fmla="*/ 976320 h 1008000"/>
            </a:gdLst>
            <a:ahLst/>
            <a:rect l="textAreaLeft" t="textAreaTop" r="textAreaRight" b="textAreaBottom"/>
            <a:pathLst>
              <a:path w="21600" h="100668">
                <a:moveTo>
                  <a:pt x="10800" y="0"/>
                </a:moveTo>
                <a:arcTo wR="10800" hR="10800" stAng="16200000" swAng="-5400000"/>
                <a:lnTo>
                  <a:pt x="0" y="89868"/>
                </a:lnTo>
                <a:arcTo wR="10800" hR="10800" stAng="10800000" swAng="-5400000"/>
                <a:lnTo>
                  <a:pt x="10800" y="10066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7" name="Rounded Rectangle 54"/>
          <p:cNvSpPr/>
          <p:nvPr/>
        </p:nvSpPr>
        <p:spPr>
          <a:xfrm>
            <a:off x="5435640" y="3933720"/>
            <a:ext cx="187200" cy="100800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008000"/>
              <a:gd name="textAreaBottom" fmla="*/ 980640 h 1008000"/>
            </a:gdLst>
            <a:ahLst/>
            <a:rect l="textAreaLeft" t="textAreaTop" r="textAreaRight" b="textAreaBottom"/>
            <a:pathLst>
              <a:path w="21600" h="116126">
                <a:moveTo>
                  <a:pt x="10800" y="0"/>
                </a:moveTo>
                <a:arcTo wR="10800" hR="10800" stAng="16200000" swAng="-5400000"/>
                <a:lnTo>
                  <a:pt x="0" y="105326"/>
                </a:lnTo>
                <a:arcTo wR="10800" hR="10800" stAng="10800000" swAng="-5400000"/>
                <a:lnTo>
                  <a:pt x="10800" y="116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8" name="Oval 55"/>
          <p:cNvSpPr/>
          <p:nvPr/>
        </p:nvSpPr>
        <p:spPr>
          <a:xfrm>
            <a:off x="5364000" y="3573360"/>
            <a:ext cx="673200" cy="62064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39" name="Rounded Rectangle 61"/>
          <p:cNvSpPr/>
          <p:nvPr/>
        </p:nvSpPr>
        <p:spPr>
          <a:xfrm>
            <a:off x="6443640" y="3284640"/>
            <a:ext cx="223920" cy="496800"/>
          </a:xfrm>
          <a:custGeom>
            <a:avLst/>
            <a:gdLst>
              <a:gd name="textAreaLeft" fmla="*/ 32760 w 223920"/>
              <a:gd name="textAreaRight" fmla="*/ 191160 w 223920"/>
              <a:gd name="textAreaTop" fmla="*/ 32760 h 496800"/>
              <a:gd name="textAreaBottom" fmla="*/ 464040 h 496800"/>
            </a:gdLst>
            <a:ahLst/>
            <a:rect l="textAreaLeft" t="textAreaTop" r="textAreaRight" b="textAreaBottom"/>
            <a:pathLst>
              <a:path w="21600" h="47881">
                <a:moveTo>
                  <a:pt x="10800" y="0"/>
                </a:moveTo>
                <a:arcTo wR="10800" hR="10800" stAng="16200000" swAng="-5400000"/>
                <a:lnTo>
                  <a:pt x="0" y="37081"/>
                </a:lnTo>
                <a:arcTo wR="10800" hR="10800" stAng="10800000" swAng="-5400000"/>
                <a:lnTo>
                  <a:pt x="10800" y="4788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0" name="Rounded Rectangle 62"/>
          <p:cNvSpPr/>
          <p:nvPr/>
        </p:nvSpPr>
        <p:spPr>
          <a:xfrm>
            <a:off x="6732720" y="3284640"/>
            <a:ext cx="217440" cy="496800"/>
          </a:xfrm>
          <a:custGeom>
            <a:avLst/>
            <a:gdLst>
              <a:gd name="textAreaLeft" fmla="*/ 31680 w 217440"/>
              <a:gd name="textAreaRight" fmla="*/ 185760 w 217440"/>
              <a:gd name="textAreaTop" fmla="*/ 31680 h 496800"/>
              <a:gd name="textAreaBottom" fmla="*/ 465120 h 496800"/>
            </a:gdLst>
            <a:ahLst/>
            <a:rect l="textAreaLeft" t="textAreaTop" r="textAreaRight" b="textAreaBottom"/>
            <a:pathLst>
              <a:path w="21600" h="49305">
                <a:moveTo>
                  <a:pt x="10800" y="0"/>
                </a:moveTo>
                <a:arcTo wR="10800" hR="10800" stAng="16200000" swAng="-5400000"/>
                <a:lnTo>
                  <a:pt x="0" y="38505"/>
                </a:lnTo>
                <a:arcTo wR="10800" hR="10800" stAng="10800000" swAng="-5400000"/>
                <a:lnTo>
                  <a:pt x="10800" y="49305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1" name="Rounded Rectangle 63"/>
          <p:cNvSpPr/>
          <p:nvPr/>
        </p:nvSpPr>
        <p:spPr>
          <a:xfrm>
            <a:off x="6732720" y="3933720"/>
            <a:ext cx="215640" cy="1008000"/>
          </a:xfrm>
          <a:custGeom>
            <a:avLst/>
            <a:gdLst>
              <a:gd name="textAreaLeft" fmla="*/ 31320 w 215640"/>
              <a:gd name="textAreaRight" fmla="*/ 184320 w 215640"/>
              <a:gd name="textAreaTop" fmla="*/ 31320 h 1008000"/>
              <a:gd name="textAreaBottom" fmla="*/ 976680 h 1008000"/>
            </a:gdLst>
            <a:ahLst/>
            <a:rect l="textAreaLeft" t="textAreaTop" r="textAreaRight" b="textAreaBottom"/>
            <a:pathLst>
              <a:path w="21600" h="100836">
                <a:moveTo>
                  <a:pt x="10800" y="0"/>
                </a:moveTo>
                <a:arcTo wR="10800" hR="10800" stAng="16200000" swAng="-5400000"/>
                <a:lnTo>
                  <a:pt x="0" y="90036"/>
                </a:lnTo>
                <a:arcTo wR="10800" hR="10800" stAng="10800000" swAng="-5400000"/>
                <a:lnTo>
                  <a:pt x="10800" y="10083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2" name="Rounded Rectangle 64"/>
          <p:cNvSpPr/>
          <p:nvPr/>
        </p:nvSpPr>
        <p:spPr>
          <a:xfrm>
            <a:off x="6443640" y="3933720"/>
            <a:ext cx="187200" cy="1008000"/>
          </a:xfrm>
          <a:custGeom>
            <a:avLst/>
            <a:gdLst>
              <a:gd name="textAreaLeft" fmla="*/ 27360 w 187200"/>
              <a:gd name="textAreaRight" fmla="*/ 159840 w 187200"/>
              <a:gd name="textAreaTop" fmla="*/ 27360 h 1008000"/>
              <a:gd name="textAreaBottom" fmla="*/ 980640 h 1008000"/>
            </a:gdLst>
            <a:ahLst/>
            <a:rect l="textAreaLeft" t="textAreaTop" r="textAreaRight" b="textAreaBottom"/>
            <a:pathLst>
              <a:path w="21600" h="116126">
                <a:moveTo>
                  <a:pt x="10800" y="0"/>
                </a:moveTo>
                <a:arcTo wR="10800" hR="10800" stAng="16200000" swAng="-5400000"/>
                <a:lnTo>
                  <a:pt x="0" y="105326"/>
                </a:lnTo>
                <a:arcTo wR="10800" hR="10800" stAng="10800000" swAng="-5400000"/>
                <a:lnTo>
                  <a:pt x="10800" y="1161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3" name="Oval 65"/>
          <p:cNvSpPr/>
          <p:nvPr/>
        </p:nvSpPr>
        <p:spPr>
          <a:xfrm>
            <a:off x="6372360" y="3573360"/>
            <a:ext cx="672840" cy="620640"/>
          </a:xfrm>
          <a:prstGeom prst="ellipse">
            <a:avLst/>
          </a:prstGeom>
          <a:solidFill>
            <a:srgbClr val="badd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"/>
          <p:cNvSpPr/>
          <p:nvPr/>
        </p:nvSpPr>
        <p:spPr>
          <a:xfrm>
            <a:off x="7093080" y="3860640"/>
            <a:ext cx="1150920" cy="1447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5" name="Isosceles Triangle 2"/>
          <p:cNvSpPr/>
          <p:nvPr/>
        </p:nvSpPr>
        <p:spPr>
          <a:xfrm rot="16200000">
            <a:off x="6771600" y="36835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093080" y="4076640"/>
            <a:ext cx="115092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7" name="Isosceles Triangle 4"/>
          <p:cNvSpPr/>
          <p:nvPr/>
        </p:nvSpPr>
        <p:spPr>
          <a:xfrm rot="16200000">
            <a:off x="6771600" y="38977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5219640" y="3860640"/>
            <a:ext cx="1224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49" name="Isosceles Triangle 6"/>
          <p:cNvSpPr/>
          <p:nvPr/>
        </p:nvSpPr>
        <p:spPr>
          <a:xfrm rot="16200000">
            <a:off x="4899960" y="367884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5221440" y="4076640"/>
            <a:ext cx="1222200" cy="1382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1" name="Isosceles Triangle 8"/>
          <p:cNvSpPr/>
          <p:nvPr/>
        </p:nvSpPr>
        <p:spPr>
          <a:xfrm rot="16200000">
            <a:off x="4899960" y="389304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424320" y="386568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2781360" y="3865680"/>
            <a:ext cx="71424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4" name="Straight Connector 12"/>
          <p:cNvSpPr/>
          <p:nvPr/>
        </p:nvSpPr>
        <p:spPr>
          <a:xfrm>
            <a:off x="2781360" y="3794040"/>
            <a:ext cx="714240" cy="18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5" name="Straight Connector 16"/>
          <p:cNvSpPr/>
          <p:nvPr/>
        </p:nvSpPr>
        <p:spPr>
          <a:xfrm>
            <a:off x="2852640" y="3794040"/>
            <a:ext cx="0" cy="21456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3424320" y="415116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7" name="Rectangle 24"/>
          <p:cNvSpPr/>
          <p:nvPr/>
        </p:nvSpPr>
        <p:spPr>
          <a:xfrm>
            <a:off x="2781360" y="4151160"/>
            <a:ext cx="71424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8" name="Straight Connector 25"/>
          <p:cNvSpPr/>
          <p:nvPr/>
        </p:nvSpPr>
        <p:spPr>
          <a:xfrm>
            <a:off x="2781360" y="4079880"/>
            <a:ext cx="71424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59" name="Straight Connector 26"/>
          <p:cNvSpPr/>
          <p:nvPr/>
        </p:nvSpPr>
        <p:spPr>
          <a:xfrm>
            <a:off x="2852640" y="407988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0" name="Rectangle 27"/>
          <p:cNvSpPr/>
          <p:nvPr/>
        </p:nvSpPr>
        <p:spPr>
          <a:xfrm>
            <a:off x="1403280" y="386064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760320" y="3860640"/>
            <a:ext cx="7146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2" name="Straight Connector 29"/>
          <p:cNvSpPr/>
          <p:nvPr/>
        </p:nvSpPr>
        <p:spPr>
          <a:xfrm>
            <a:off x="760320" y="3789360"/>
            <a:ext cx="71460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3" name="Straight Connector 30"/>
          <p:cNvSpPr/>
          <p:nvPr/>
        </p:nvSpPr>
        <p:spPr>
          <a:xfrm>
            <a:off x="831960" y="378936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4" name="Rectangle 31"/>
          <p:cNvSpPr/>
          <p:nvPr/>
        </p:nvSpPr>
        <p:spPr>
          <a:xfrm>
            <a:off x="1403280" y="414648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5" name="Rectangle 32"/>
          <p:cNvSpPr/>
          <p:nvPr/>
        </p:nvSpPr>
        <p:spPr>
          <a:xfrm>
            <a:off x="760320" y="4146480"/>
            <a:ext cx="7146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6" name="Straight Connector 33"/>
          <p:cNvSpPr/>
          <p:nvPr/>
        </p:nvSpPr>
        <p:spPr>
          <a:xfrm>
            <a:off x="760320" y="4075200"/>
            <a:ext cx="71460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67" name="Straight Connector 34"/>
          <p:cNvSpPr/>
          <p:nvPr/>
        </p:nvSpPr>
        <p:spPr>
          <a:xfrm>
            <a:off x="831960" y="407520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18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28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30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32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64 -0.29394 E">
                                      <p:cBhvr>
                                        <p:cTn id="34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-0.2833 E">
                                      <p:cBhvr>
                                        <p:cTn id="3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9462 -0.2833 E">
                                      <p:cBhvr>
                                        <p:cTn id="3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11 -0.2833 E">
                                      <p:cBhvr>
                                        <p:cTn id="40" dur="3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11 -0.2833 E">
                                      <p:cBhvr>
                                        <p:cTn id="42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4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4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8351 0.26225 E">
                                      <p:cBhvr>
                                        <p:cTn id="5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6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26 0.28307 E">
                                      <p:cBhvr>
                                        <p:cTn id="58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0.28331 E">
                                      <p:cBhvr>
                                        <p:cTn id="6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2 0.28331 E">
                                      <p:cBhvr>
                                        <p:cTn id="62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25162 E">
                                      <p:cBhvr>
                                        <p:cTn id="6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1267 0.25162 E">
                                      <p:cBhvr>
                                        <p:cTn id="66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9 -0.2833 E">
                                      <p:cBhvr>
                                        <p:cTn id="6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9 -0.2833 E">
                                      <p:cBhvr>
                                        <p:cTn id="7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TextBox 21" descr=""/>
          <p:cNvPicPr/>
          <p:nvPr/>
        </p:nvPicPr>
        <p:blipFill>
          <a:blip r:embed="rId1"/>
          <a:stretch/>
        </p:blipFill>
        <p:spPr>
          <a:xfrm>
            <a:off x="615960" y="3071880"/>
            <a:ext cx="7613640" cy="4103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35"/>
          <p:cNvSpPr/>
          <p:nvPr/>
        </p:nvSpPr>
        <p:spPr>
          <a:xfrm>
            <a:off x="7016760" y="2058840"/>
            <a:ext cx="1150920" cy="1447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0" name="Isosceles Triangle 41"/>
          <p:cNvSpPr/>
          <p:nvPr/>
        </p:nvSpPr>
        <p:spPr>
          <a:xfrm rot="16200000">
            <a:off x="6695280" y="18817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7016760" y="2274840"/>
            <a:ext cx="115092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2" name="Isosceles Triangle 45"/>
          <p:cNvSpPr/>
          <p:nvPr/>
        </p:nvSpPr>
        <p:spPr>
          <a:xfrm rot="16200000">
            <a:off x="6695280" y="209592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3" name="Rectangle 46"/>
          <p:cNvSpPr/>
          <p:nvPr/>
        </p:nvSpPr>
        <p:spPr>
          <a:xfrm>
            <a:off x="5143680" y="2058840"/>
            <a:ext cx="12236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4" name="Isosceles Triangle 47"/>
          <p:cNvSpPr/>
          <p:nvPr/>
        </p:nvSpPr>
        <p:spPr>
          <a:xfrm rot="16200000">
            <a:off x="4823640" y="1877040"/>
            <a:ext cx="14256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5" name="Rectangle 48"/>
          <p:cNvSpPr/>
          <p:nvPr/>
        </p:nvSpPr>
        <p:spPr>
          <a:xfrm>
            <a:off x="5145120" y="2274840"/>
            <a:ext cx="1222200" cy="13824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6" name="Isosceles Triangle 49"/>
          <p:cNvSpPr/>
          <p:nvPr/>
        </p:nvSpPr>
        <p:spPr>
          <a:xfrm rot="16200000">
            <a:off x="4823640" y="2091240"/>
            <a:ext cx="142920" cy="500040"/>
          </a:xfrm>
          <a:prstGeom prst="triangle">
            <a:avLst>
              <a:gd name="adj" fmla="val 50000"/>
            </a:avLst>
          </a:prstGeom>
          <a:solidFill>
            <a:srgbClr val="f8f0b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7" name="Rectangle 50"/>
          <p:cNvSpPr/>
          <p:nvPr/>
        </p:nvSpPr>
        <p:spPr>
          <a:xfrm>
            <a:off x="3348000" y="206388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8" name="Rectangle 51"/>
          <p:cNvSpPr/>
          <p:nvPr/>
        </p:nvSpPr>
        <p:spPr>
          <a:xfrm>
            <a:off x="2705040" y="2063880"/>
            <a:ext cx="7146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79" name="Straight Connector 52"/>
          <p:cNvSpPr/>
          <p:nvPr/>
        </p:nvSpPr>
        <p:spPr>
          <a:xfrm>
            <a:off x="2705040" y="1992240"/>
            <a:ext cx="714600" cy="180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0" name="Straight Connector 53"/>
          <p:cNvSpPr/>
          <p:nvPr/>
        </p:nvSpPr>
        <p:spPr>
          <a:xfrm>
            <a:off x="2776680" y="1992240"/>
            <a:ext cx="0" cy="21456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1" name="Rectangle 54"/>
          <p:cNvSpPr/>
          <p:nvPr/>
        </p:nvSpPr>
        <p:spPr>
          <a:xfrm>
            <a:off x="3348000" y="2349360"/>
            <a:ext cx="11430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2" name="Rectangle 55"/>
          <p:cNvSpPr/>
          <p:nvPr/>
        </p:nvSpPr>
        <p:spPr>
          <a:xfrm>
            <a:off x="2705040" y="2349360"/>
            <a:ext cx="714600" cy="142920"/>
          </a:xfrm>
          <a:prstGeom prst="rect">
            <a:avLst/>
          </a:prstGeom>
          <a:solidFill>
            <a:srgbClr val="0081c7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3" name="Straight Connector 56"/>
          <p:cNvSpPr/>
          <p:nvPr/>
        </p:nvSpPr>
        <p:spPr>
          <a:xfrm>
            <a:off x="2705040" y="2278080"/>
            <a:ext cx="71460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4" name="Straight Connector 57"/>
          <p:cNvSpPr/>
          <p:nvPr/>
        </p:nvSpPr>
        <p:spPr>
          <a:xfrm>
            <a:off x="2776680" y="227808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5" name="Rectangle 58"/>
          <p:cNvSpPr/>
          <p:nvPr/>
        </p:nvSpPr>
        <p:spPr>
          <a:xfrm>
            <a:off x="1327320" y="205884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6" name="Rectangle 59"/>
          <p:cNvSpPr/>
          <p:nvPr/>
        </p:nvSpPr>
        <p:spPr>
          <a:xfrm>
            <a:off x="684360" y="2058840"/>
            <a:ext cx="7142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7" name="Straight Connector 60"/>
          <p:cNvSpPr/>
          <p:nvPr/>
        </p:nvSpPr>
        <p:spPr>
          <a:xfrm>
            <a:off x="684360" y="1987560"/>
            <a:ext cx="71424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8" name="Straight Connector 61"/>
          <p:cNvSpPr/>
          <p:nvPr/>
        </p:nvSpPr>
        <p:spPr>
          <a:xfrm>
            <a:off x="755640" y="198756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89" name="Rectangle 62"/>
          <p:cNvSpPr/>
          <p:nvPr/>
        </p:nvSpPr>
        <p:spPr>
          <a:xfrm>
            <a:off x="1327320" y="2344680"/>
            <a:ext cx="114300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0" name="Rectangle 63"/>
          <p:cNvSpPr/>
          <p:nvPr/>
        </p:nvSpPr>
        <p:spPr>
          <a:xfrm>
            <a:off x="684360" y="2344680"/>
            <a:ext cx="7142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1" name="Straight Connector 64"/>
          <p:cNvSpPr/>
          <p:nvPr/>
        </p:nvSpPr>
        <p:spPr>
          <a:xfrm>
            <a:off x="684360" y="2273400"/>
            <a:ext cx="714240" cy="1440"/>
          </a:xfrm>
          <a:prstGeom prst="line">
            <a:avLst/>
          </a:prstGeom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2" name="Straight Connector 65"/>
          <p:cNvSpPr/>
          <p:nvPr/>
        </p:nvSpPr>
        <p:spPr>
          <a:xfrm>
            <a:off x="755640" y="2273400"/>
            <a:ext cx="0" cy="214200"/>
          </a:xfrm>
          <a:prstGeom prst="line">
            <a:avLst/>
          </a:prstGeom>
          <a:ln w="9360">
            <a:solidFill>
              <a:srgbClr val="2020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ounded Rectangle 43"/>
          <p:cNvSpPr/>
          <p:nvPr/>
        </p:nvSpPr>
        <p:spPr>
          <a:xfrm rot="16200000">
            <a:off x="539640" y="1699920"/>
            <a:ext cx="144360" cy="57600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76000"/>
              <a:gd name="textAreaBottom" fmla="*/ 555120 h 576000"/>
            </a:gdLst>
            <a:ahLst/>
            <a:rect l="textAreaLeft" t="textAreaTop" r="textAreaRight" b="textAreaBottom"/>
            <a:pathLst>
              <a:path w="21600" h="86024">
                <a:moveTo>
                  <a:pt x="10800" y="0"/>
                </a:moveTo>
                <a:arcTo wR="10800" hR="10800" stAng="16200000" swAng="-5400000"/>
                <a:lnTo>
                  <a:pt x="0" y="75224"/>
                </a:lnTo>
                <a:arcTo wR="10800" hR="10800" stAng="10800000" swAng="-5400000"/>
                <a:lnTo>
                  <a:pt x="10800" y="8602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4" name="Rounded Rectangle 32"/>
          <p:cNvSpPr/>
          <p:nvPr/>
        </p:nvSpPr>
        <p:spPr>
          <a:xfrm rot="16200000">
            <a:off x="1834920" y="112356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5" name="Rounded Rectangle 22"/>
          <p:cNvSpPr/>
          <p:nvPr/>
        </p:nvSpPr>
        <p:spPr>
          <a:xfrm rot="16200000">
            <a:off x="503280" y="2025360"/>
            <a:ext cx="144360" cy="5029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02920"/>
              <a:gd name="textAreaBottom" fmla="*/ 482040 h 502920"/>
            </a:gdLst>
            <a:ahLst/>
            <a:rect l="textAreaLeft" t="textAreaTop" r="textAreaRight" b="textAreaBottom"/>
            <a:pathLst>
              <a:path w="21600" h="75116">
                <a:moveTo>
                  <a:pt x="10800" y="0"/>
                </a:moveTo>
                <a:arcTo wR="10800" hR="10800" stAng="16200000" swAng="-5400000"/>
                <a:lnTo>
                  <a:pt x="0" y="64316"/>
                </a:lnTo>
                <a:arcTo wR="10800" hR="10800" stAng="10800000" swAng="-5400000"/>
                <a:lnTo>
                  <a:pt x="10800" y="7511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6" name="Rounded Rectangle 23"/>
          <p:cNvSpPr/>
          <p:nvPr/>
        </p:nvSpPr>
        <p:spPr>
          <a:xfrm rot="16200000">
            <a:off x="1834920" y="141228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7" name="Oval 30"/>
          <p:cNvSpPr/>
          <p:nvPr/>
        </p:nvSpPr>
        <p:spPr>
          <a:xfrm>
            <a:off x="755640" y="1844640"/>
            <a:ext cx="64764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8" name="Rounded Rectangle 24"/>
          <p:cNvSpPr/>
          <p:nvPr/>
        </p:nvSpPr>
        <p:spPr>
          <a:xfrm rot="16200000">
            <a:off x="3275640" y="1700640"/>
            <a:ext cx="144360" cy="57456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74560"/>
              <a:gd name="textAreaBottom" fmla="*/ 553680 h 574560"/>
            </a:gdLst>
            <a:ahLst/>
            <a:rect l="textAreaLeft" t="textAreaTop" r="textAreaRight" b="textAreaBottom"/>
            <a:pathLst>
              <a:path w="21600" h="85809">
                <a:moveTo>
                  <a:pt x="10800" y="0"/>
                </a:moveTo>
                <a:arcTo wR="10800" hR="10800" stAng="16200000" swAng="-5400000"/>
                <a:lnTo>
                  <a:pt x="0" y="75009"/>
                </a:lnTo>
                <a:arcTo wR="10800" hR="10800" stAng="10800000" swAng="-5400000"/>
                <a:lnTo>
                  <a:pt x="10800" y="8580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199" name="Rounded Rectangle 25"/>
          <p:cNvSpPr/>
          <p:nvPr/>
        </p:nvSpPr>
        <p:spPr>
          <a:xfrm rot="16200000">
            <a:off x="4572000" y="112356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0" name="Rounded Rectangle 26"/>
          <p:cNvSpPr/>
          <p:nvPr/>
        </p:nvSpPr>
        <p:spPr>
          <a:xfrm rot="16200000">
            <a:off x="3240000" y="2025000"/>
            <a:ext cx="144360" cy="50328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503280"/>
              <a:gd name="textAreaBottom" fmla="*/ 482400 h 503280"/>
            </a:gdLst>
            <a:ahLst/>
            <a:rect l="textAreaLeft" t="textAreaTop" r="textAreaRight" b="textAreaBottom"/>
            <a:pathLst>
              <a:path w="21600" h="75170">
                <a:moveTo>
                  <a:pt x="10800" y="0"/>
                </a:moveTo>
                <a:arcTo wR="10800" hR="10800" stAng="16200000" swAng="-5400000"/>
                <a:lnTo>
                  <a:pt x="0" y="64370"/>
                </a:lnTo>
                <a:arcTo wR="10800" hR="10800" stAng="10800000" swAng="-5400000"/>
                <a:lnTo>
                  <a:pt x="10800" y="75170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1" name="Rounded Rectangle 27"/>
          <p:cNvSpPr/>
          <p:nvPr/>
        </p:nvSpPr>
        <p:spPr>
          <a:xfrm rot="16200000">
            <a:off x="4572000" y="1412280"/>
            <a:ext cx="144360" cy="1728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1728720"/>
              <a:gd name="textAreaBottom" fmla="*/ 1707840 h 1728720"/>
            </a:gdLst>
            <a:ahLst/>
            <a:rect l="textAreaLeft" t="textAreaTop" r="textAreaRight" b="textAreaBottom"/>
            <a:pathLst>
              <a:path w="21600" h="258072">
                <a:moveTo>
                  <a:pt x="10800" y="0"/>
                </a:moveTo>
                <a:arcTo wR="10800" hR="10800" stAng="16200000" swAng="-5400000"/>
                <a:lnTo>
                  <a:pt x="0" y="247272"/>
                </a:lnTo>
                <a:arcTo wR="10800" hR="10800" stAng="10800000" swAng="-5400000"/>
                <a:lnTo>
                  <a:pt x="10800" y="258072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2" name="Oval 28"/>
          <p:cNvSpPr/>
          <p:nvPr/>
        </p:nvSpPr>
        <p:spPr>
          <a:xfrm>
            <a:off x="3492360" y="1844640"/>
            <a:ext cx="648000" cy="628560"/>
          </a:xfrm>
          <a:prstGeom prst="ellipse">
            <a:avLst/>
          </a:prstGeom>
          <a:solidFill>
            <a:srgbClr val="abd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3" name="Rounded Rectangle 29"/>
          <p:cNvSpPr/>
          <p:nvPr/>
        </p:nvSpPr>
        <p:spPr>
          <a:xfrm rot="16200000">
            <a:off x="7401600" y="1792800"/>
            <a:ext cx="144360" cy="39024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90240"/>
              <a:gd name="textAreaBottom" fmla="*/ 369360 h 390240"/>
            </a:gdLst>
            <a:ahLst/>
            <a:rect l="textAreaLeft" t="textAreaTop" r="textAreaRight" b="textAreaBottom"/>
            <a:pathLst>
              <a:path w="21600" h="58299">
                <a:moveTo>
                  <a:pt x="10800" y="0"/>
                </a:moveTo>
                <a:arcTo wR="10800" hR="10800" stAng="16200000" swAng="-5400000"/>
                <a:lnTo>
                  <a:pt x="0" y="47499"/>
                </a:lnTo>
                <a:arcTo wR="10800" hR="10800" stAng="10800000" swAng="-5400000"/>
                <a:lnTo>
                  <a:pt x="10800" y="582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4" name="Rounded Rectangle 31"/>
          <p:cNvSpPr/>
          <p:nvPr/>
        </p:nvSpPr>
        <p:spPr>
          <a:xfrm rot="16200000">
            <a:off x="8136720" y="151956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5" name="Rounded Rectangle 33"/>
          <p:cNvSpPr/>
          <p:nvPr/>
        </p:nvSpPr>
        <p:spPr>
          <a:xfrm rot="16200000">
            <a:off x="7368480" y="2121120"/>
            <a:ext cx="144360" cy="31140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11400"/>
              <a:gd name="textAreaBottom" fmla="*/ 290520 h 311400"/>
            </a:gdLst>
            <a:ahLst/>
            <a:rect l="textAreaLeft" t="textAreaTop" r="textAreaRight" b="textAreaBottom"/>
            <a:pathLst>
              <a:path w="21600" h="46531">
                <a:moveTo>
                  <a:pt x="10800" y="0"/>
                </a:moveTo>
                <a:arcTo wR="10800" hR="10800" stAng="16200000" swAng="-5400000"/>
                <a:lnTo>
                  <a:pt x="0" y="35731"/>
                </a:lnTo>
                <a:arcTo wR="10800" hR="10800" stAng="10800000" swAng="-5400000"/>
                <a:lnTo>
                  <a:pt x="10800" y="465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6" name="Rounded Rectangle 34"/>
          <p:cNvSpPr/>
          <p:nvPr/>
        </p:nvSpPr>
        <p:spPr>
          <a:xfrm rot="16200000">
            <a:off x="8136720" y="180828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ff0000"/>
          </a:solidFill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7470720" y="1844640"/>
            <a:ext cx="701640" cy="628560"/>
          </a:xfrm>
          <a:prstGeom prst="ellipse">
            <a:avLst/>
          </a:prstGeom>
          <a:solidFill>
            <a:srgbClr val="ff9b9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8" name="Rounded Rectangle 37"/>
          <p:cNvSpPr/>
          <p:nvPr/>
        </p:nvSpPr>
        <p:spPr>
          <a:xfrm rot="16200000">
            <a:off x="5817240" y="1792800"/>
            <a:ext cx="144360" cy="39024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90240"/>
              <a:gd name="textAreaBottom" fmla="*/ 369360 h 390240"/>
            </a:gdLst>
            <a:ahLst/>
            <a:rect l="textAreaLeft" t="textAreaTop" r="textAreaRight" b="textAreaBottom"/>
            <a:pathLst>
              <a:path w="21600" h="58299">
                <a:moveTo>
                  <a:pt x="10800" y="0"/>
                </a:moveTo>
                <a:arcTo wR="10800" hR="10800" stAng="16200000" swAng="-5400000"/>
                <a:lnTo>
                  <a:pt x="0" y="47499"/>
                </a:lnTo>
                <a:arcTo wR="10800" hR="10800" stAng="10800000" swAng="-5400000"/>
                <a:lnTo>
                  <a:pt x="10800" y="5829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09" name="Rounded Rectangle 38"/>
          <p:cNvSpPr/>
          <p:nvPr/>
        </p:nvSpPr>
        <p:spPr>
          <a:xfrm rot="16200000">
            <a:off x="6552360" y="151956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0" name="Rounded Rectangle 39"/>
          <p:cNvSpPr/>
          <p:nvPr/>
        </p:nvSpPr>
        <p:spPr>
          <a:xfrm rot="16200000">
            <a:off x="5784120" y="2121120"/>
            <a:ext cx="144360" cy="31140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311400"/>
              <a:gd name="textAreaBottom" fmla="*/ 290520 h 311400"/>
            </a:gdLst>
            <a:ahLst/>
            <a:rect l="textAreaLeft" t="textAreaTop" r="textAreaRight" b="textAreaBottom"/>
            <a:pathLst>
              <a:path w="21600" h="46531">
                <a:moveTo>
                  <a:pt x="10800" y="0"/>
                </a:moveTo>
                <a:arcTo wR="10800" hR="10800" stAng="16200000" swAng="-5400000"/>
                <a:lnTo>
                  <a:pt x="0" y="35731"/>
                </a:lnTo>
                <a:arcTo wR="10800" hR="10800" stAng="10800000" swAng="-5400000"/>
                <a:lnTo>
                  <a:pt x="10800" y="465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1" name="Rounded Rectangle 40"/>
          <p:cNvSpPr/>
          <p:nvPr/>
        </p:nvSpPr>
        <p:spPr>
          <a:xfrm rot="16200000">
            <a:off x="6552360" y="1808280"/>
            <a:ext cx="144360" cy="936720"/>
          </a:xfrm>
          <a:custGeom>
            <a:avLst/>
            <a:gdLst>
              <a:gd name="textAreaLeft" fmla="*/ 20880 w 144360"/>
              <a:gd name="textAreaRight" fmla="*/ 123480 w 144360"/>
              <a:gd name="textAreaTop" fmla="*/ 20880 h 936720"/>
              <a:gd name="textAreaBottom" fmla="*/ 915840 h 936720"/>
            </a:gdLst>
            <a:ahLst/>
            <a:rect l="textAreaLeft" t="textAreaTop" r="textAreaRight" b="textAreaBottom"/>
            <a:pathLst>
              <a:path w="21600" h="139863">
                <a:moveTo>
                  <a:pt x="10800" y="0"/>
                </a:moveTo>
                <a:arcTo wR="10800" hR="10800" stAng="16200000" swAng="-5400000"/>
                <a:lnTo>
                  <a:pt x="0" y="129063"/>
                </a:lnTo>
                <a:arcTo wR="10800" hR="10800" stAng="10800000" swAng="-5400000"/>
                <a:lnTo>
                  <a:pt x="10800" y="139863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81c7"/>
          </a:solidFill>
          <a:ln w="60480">
            <a:solidFill>
              <a:srgbClr val="0081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2" name="Oval 42"/>
          <p:cNvSpPr/>
          <p:nvPr/>
        </p:nvSpPr>
        <p:spPr>
          <a:xfrm>
            <a:off x="5886360" y="1844640"/>
            <a:ext cx="701640" cy="628560"/>
          </a:xfrm>
          <a:prstGeom prst="ellipse">
            <a:avLst/>
          </a:prstGeom>
          <a:solidFill>
            <a:srgbClr val="abde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pic>
        <p:nvPicPr>
          <p:cNvPr id="213" name="TextBox 21" descr=""/>
          <p:cNvPicPr/>
          <p:nvPr/>
        </p:nvPicPr>
        <p:blipFill>
          <a:blip r:embed="rId1"/>
          <a:stretch/>
        </p:blipFill>
        <p:spPr>
          <a:xfrm>
            <a:off x="615960" y="3071880"/>
            <a:ext cx="761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6"/>
          <p:cNvSpPr/>
          <p:nvPr/>
        </p:nvSpPr>
        <p:spPr>
          <a:xfrm>
            <a:off x="1692360" y="2421000"/>
            <a:ext cx="0" cy="3240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5" name="Straight Connector 7"/>
          <p:cNvSpPr/>
          <p:nvPr/>
        </p:nvSpPr>
        <p:spPr>
          <a:xfrm flipH="1">
            <a:off x="1547640" y="5516640"/>
            <a:ext cx="5328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6" name="Straight Connector 13"/>
          <p:cNvSpPr/>
          <p:nvPr/>
        </p:nvSpPr>
        <p:spPr>
          <a:xfrm>
            <a:off x="341964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7" name="Straight Connector 16"/>
          <p:cNvSpPr/>
          <p:nvPr/>
        </p:nvSpPr>
        <p:spPr>
          <a:xfrm>
            <a:off x="255600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8" name="Straight Connector 17"/>
          <p:cNvSpPr/>
          <p:nvPr/>
        </p:nvSpPr>
        <p:spPr>
          <a:xfrm>
            <a:off x="428472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19" name="Straight Connector 18"/>
          <p:cNvSpPr/>
          <p:nvPr/>
        </p:nvSpPr>
        <p:spPr>
          <a:xfrm>
            <a:off x="514836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0" name="Straight Connector 19"/>
          <p:cNvSpPr/>
          <p:nvPr/>
        </p:nvSpPr>
        <p:spPr>
          <a:xfrm>
            <a:off x="601200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1" name="Straight Connector 20"/>
          <p:cNvSpPr/>
          <p:nvPr/>
        </p:nvSpPr>
        <p:spPr>
          <a:xfrm>
            <a:off x="6875640" y="551664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2" name="Straight Connector 26"/>
          <p:cNvSpPr/>
          <p:nvPr/>
        </p:nvSpPr>
        <p:spPr>
          <a:xfrm>
            <a:off x="1547640" y="4941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3" name="Straight Connector 27"/>
          <p:cNvSpPr/>
          <p:nvPr/>
        </p:nvSpPr>
        <p:spPr>
          <a:xfrm>
            <a:off x="1547640" y="436572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4" name="Straight Connector 29"/>
          <p:cNvSpPr/>
          <p:nvPr/>
        </p:nvSpPr>
        <p:spPr>
          <a:xfrm>
            <a:off x="1547640" y="378936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5" name="Straight Connector 31"/>
          <p:cNvSpPr/>
          <p:nvPr/>
        </p:nvSpPr>
        <p:spPr>
          <a:xfrm>
            <a:off x="1547640" y="3213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6" name="Straight Connector 32"/>
          <p:cNvSpPr/>
          <p:nvPr/>
        </p:nvSpPr>
        <p:spPr>
          <a:xfrm>
            <a:off x="1547640" y="2637000"/>
            <a:ext cx="13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7" name="Straight Connector 39"/>
          <p:cNvSpPr/>
          <p:nvPr/>
        </p:nvSpPr>
        <p:spPr>
          <a:xfrm>
            <a:off x="1692360" y="4365720"/>
            <a:ext cx="26636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8" name="Freeform 40"/>
          <p:cNvSpPr/>
          <p:nvPr/>
        </p:nvSpPr>
        <p:spPr>
          <a:xfrm>
            <a:off x="4284720" y="4367160"/>
            <a:ext cx="1720800" cy="103680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1719618" h="1037229">
                <a:moveTo>
                  <a:pt x="0" y="0"/>
                </a:moveTo>
                <a:cubicBezTo>
                  <a:pt x="286603" y="295701"/>
                  <a:pt x="573206" y="591403"/>
                  <a:pt x="859809" y="764274"/>
                </a:cubicBezTo>
                <a:cubicBezTo>
                  <a:pt x="1146412" y="937145"/>
                  <a:pt x="1719618" y="1037229"/>
                  <a:pt x="1719618" y="1037229"/>
                </a:cubicBezTo>
              </a:path>
            </a:pathLst>
          </a:custGeom>
          <a:noFill/>
          <a:ln w="255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29" name="Freeform 41"/>
          <p:cNvSpPr/>
          <p:nvPr/>
        </p:nvSpPr>
        <p:spPr>
          <a:xfrm>
            <a:off x="4313160" y="2921040"/>
            <a:ext cx="2482920" cy="256536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2565360"/>
              <a:gd name="textAreaBottom" fmla="*/ 2565360 h 2565360"/>
            </a:gdLst>
            <a:ahLst/>
            <a:rect l="textAreaLeft" t="textAreaTop" r="textAreaRight" b="textAreaBottom"/>
            <a:pathLst>
              <a:path w="2483892" h="2565779">
                <a:moveTo>
                  <a:pt x="0" y="2565779"/>
                </a:moveTo>
                <a:cubicBezTo>
                  <a:pt x="294564" y="1965277"/>
                  <a:pt x="589128" y="1364775"/>
                  <a:pt x="859808" y="996286"/>
                </a:cubicBezTo>
                <a:cubicBezTo>
                  <a:pt x="1130488" y="627797"/>
                  <a:pt x="1353402" y="520890"/>
                  <a:pt x="1624083" y="354842"/>
                </a:cubicBezTo>
                <a:cubicBezTo>
                  <a:pt x="1894764" y="188794"/>
                  <a:pt x="2189328" y="94397"/>
                  <a:pt x="2483892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0" name="TextBox 42"/>
          <p:cNvSpPr/>
          <p:nvPr/>
        </p:nvSpPr>
        <p:spPr>
          <a:xfrm>
            <a:off x="1332000" y="573264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0      5     10     15    20     25    3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              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Time / minute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1" name="TextBox 43"/>
          <p:cNvSpPr/>
          <p:nvPr/>
        </p:nvSpPr>
        <p:spPr>
          <a:xfrm>
            <a:off x="971640" y="2349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5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971640" y="29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4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3" name="TextBox 45"/>
          <p:cNvSpPr/>
          <p:nvPr/>
        </p:nvSpPr>
        <p:spPr>
          <a:xfrm>
            <a:off x="971640" y="3500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3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4" name="TextBox 46"/>
          <p:cNvSpPr/>
          <p:nvPr/>
        </p:nvSpPr>
        <p:spPr>
          <a:xfrm>
            <a:off x="971640" y="4149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2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5" name="TextBox 47"/>
          <p:cNvSpPr/>
          <p:nvPr/>
        </p:nvSpPr>
        <p:spPr>
          <a:xfrm>
            <a:off x="971640" y="472428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1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6" name="TextBox 48"/>
          <p:cNvSpPr/>
          <p:nvPr/>
        </p:nvSpPr>
        <p:spPr>
          <a:xfrm>
            <a:off x="1042920" y="5300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0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pic>
        <p:nvPicPr>
          <p:cNvPr id="237" name="TextBox 49" descr=""/>
          <p:cNvPicPr/>
          <p:nvPr/>
        </p:nvPicPr>
        <p:blipFill>
          <a:blip r:embed="rId1"/>
          <a:stretch/>
        </p:blipFill>
        <p:spPr>
          <a:xfrm>
            <a:off x="390600" y="2346480"/>
            <a:ext cx="560160" cy="33890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50"/>
          <p:cNvSpPr/>
          <p:nvPr/>
        </p:nvSpPr>
        <p:spPr>
          <a:xfrm>
            <a:off x="6875640" y="2257560"/>
            <a:ext cx="1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Distance between sister chromatids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39" name="TextBox 51"/>
          <p:cNvSpPr/>
          <p:nvPr/>
        </p:nvSpPr>
        <p:spPr>
          <a:xfrm>
            <a:off x="5219640" y="40766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0e63"/>
                </a:solidFill>
                <a:latin typeface="Verdana"/>
              </a:rPr>
              <a:t>Distance between chromatid and pole to which it is moving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50920" y="16765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80e63"/>
                </a:solidFill>
                <a:latin typeface="Verdana"/>
              </a:rPr>
              <a:t>Measurements made in a cell undergoing mitosis </a:t>
            </a:r>
            <a:endParaRPr b="1" lang="en-US" sz="2400" spc="-1" strike="noStrike">
              <a:solidFill>
                <a:srgbClr val="180e63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0:18:52Z</dcterms:created>
  <dc:creator>Sheila Tarrant</dc:creator>
  <dc:description/>
  <dc:language>en-US</dc:language>
  <cp:lastModifiedBy>Sarah Preston</cp:lastModifiedBy>
  <cp:lastPrinted>2009-08-28T13:39:14Z</cp:lastPrinted>
  <dcterms:modified xsi:type="dcterms:W3CDTF">2014-09-03T10:40:39Z</dcterms:modified>
  <cp:revision>2</cp:revision>
  <dc:subject/>
  <dc:title>Cell division</dc:title>
</cp:coreProperties>
</file>